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7CD9A-A4AD-4F45-8A76-155909F96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D38DB-670A-4EB1-81AC-BD1F21BF6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1FEFE-CBBF-419B-9D7C-23DD77B31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3A96B-1219-449C-B521-0BA5B845B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392C5-9A04-4D85-8540-33F110DE1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5F695-0004-4517-BA6B-FAF31A822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7B516-F6B4-43F1-8F6C-140A4CE2C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B8C04-56FB-41A9-95F1-4C9C3AEF3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29084-33E2-491B-9230-9ECEEC241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6E79E-C3BD-408B-9760-23CC85572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35379-DB0B-4E5D-B70D-E13A7912B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854F9-0F8E-4F84-826A-6E1439C49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E49B0-F11A-4C87-8AD5-400915596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732-C67F-4118-8FB7-6AFC1FCF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ABC-100A-417D-9B6C-50F558A3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F15-A20E-4FDB-A462-6A9251DC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9CF-DB66-4449-B8DB-1EB92D7E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DCE-F3F3-41AF-8F70-99CFD0D7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B5B-055C-4393-97D5-46E76BFE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58B-3DE4-48D6-B1BB-BD971BE2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405-4FCA-4587-A4DA-476551B5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1BC-EFE6-421C-9409-E8E55C1E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319-E4B9-41CD-8F2A-B7A60AC9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DFC-8BBC-44CD-B245-4817B021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F42-6E4A-4348-B62E-81BD07E4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3C691-6CBF-41E4-98A2-A5C535FAB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GQxFc0wjZ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s.wikipedia.org/wiki/Rusk&#225;_osvobozeneck&#225;_arm&#225;d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vobozování území Č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venské národní povst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ětnové povstání českého l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340000" y="5040360"/>
            <a:ext cx="5400720" cy="1800000"/>
          </a:xfrm>
          <a:prstGeom prst="roundRect">
            <a:avLst>
              <a:gd name="adj" fmla="val 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ozšiřující dok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je v Pra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580000" y="1619280"/>
            <a:ext cx="4267440" cy="3030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5580000" y="5040360"/>
            <a:ext cx="4289400" cy="2462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720720" y="1619280"/>
            <a:ext cx="3470400" cy="4780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3060720" y="2519280"/>
            <a:ext cx="5580000" cy="30607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1079640" y="1979640"/>
            <a:ext cx="8459640" cy="2700360"/>
          </a:xfrm>
          <a:prstGeom prst="roundRect">
            <a:avLst>
              <a:gd name="adj" fmla="val 5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isté postupují při potlačování povstání velmi krut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příklad používájí živé štíty při dobývání barikád. Na několika míste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sakry obyvatelstva v dobytých čtvrtích. Zabíjeni jsou lidé často b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zdílu včetně žen a dě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lasovci  v Pr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788000" y="1338120"/>
            <a:ext cx="4451400" cy="294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36600" y="1344600"/>
            <a:ext cx="4284720" cy="2954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252360" y="4367160"/>
            <a:ext cx="4368960" cy="299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4"/>
          <a:stretch/>
        </p:blipFill>
        <p:spPr>
          <a:xfrm>
            <a:off x="4788000" y="4375080"/>
            <a:ext cx="445140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8175600" y="1763640"/>
            <a:ext cx="1736640" cy="260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419040" y="4451400"/>
            <a:ext cx="4703760" cy="2984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5292720" y="4471920"/>
            <a:ext cx="4703760" cy="300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419040" y="1709640"/>
            <a:ext cx="3276720" cy="2659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5"/>
          <a:stretch/>
        </p:blipFill>
        <p:spPr>
          <a:xfrm>
            <a:off x="3925800" y="1758960"/>
            <a:ext cx="4052880" cy="261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2156040" y="620640"/>
            <a:ext cx="612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Zničená Staroměstská rad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Její pravé křídlo muselo být zbořeno a změnil se tak vzhled celého náměs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809400" y="45482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ůvodní st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251000"/>
            <a:ext cx="9070920" cy="63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pen 19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bojová organiza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ovenská národní rada + zahraniční odbo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í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novení ČS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puklo předčasně --&gt; tvrdě potlač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n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ejména morální a politický --&gt; ukázalo se, že většina Slováků je proti zdejšímu režim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SR snaha o podporu povstání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patsko-dukelská ope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očátek osvobozování území ČS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Dukle ale tvrdé boje až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října 19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&gt; poté pomalý postup dál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ben 1945 osvobozena Bratislava, Brno a Ost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953928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enští partyzá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3440" y="1328760"/>
            <a:ext cx="4876920" cy="299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394240" y="4319640"/>
            <a:ext cx="4505400" cy="29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or Nacistů během povst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47600" y="1440000"/>
            <a:ext cx="9753480" cy="51242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2160720" y="3600360"/>
            <a:ext cx="6119640" cy="180036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 Slovensku bylo při potlačování povst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ypáleno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90 obcí a o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povražděno př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5 000 lidí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ť již za skutečnou či doměl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moc povst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720720" y="179280"/>
            <a:ext cx="8820000" cy="738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488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vropa na konci vál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426960"/>
            <a:ext cx="9070920" cy="7672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května 1945 vypukl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stání v Přerov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ko reakce na zveřejnění smrti Hitlera – poté rozšíření do dalších mě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Května 1945 Pra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o čel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Česká národní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Živelné demonstrace, odstraňování německých nápisů x střelba do lidí --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oje o Československý rozh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terý volá o pom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iká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vrdé boje ve měst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acisté povolávájí posily + přes Prahu ustupuje nacistická armáda (chtějí do zajetí USA ne SSSR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moc Pra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rmáda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generála Vlaso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května dohodnu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pitulace nacist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&gt; volný odchod z Prahy, následující den příjezd prvních jednotek SSSR a českých vojáků do Pra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zemí osvobozené podle dohody z Jalty spojenci a  SS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989964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498600" y="392040"/>
            <a:ext cx="220176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539040" y="4791240"/>
            <a:ext cx="3000240" cy="258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je o rozh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14904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63000" bIns="0" anchor="ctr">
            <a:noAutofit/>
          </a:bodyPr>
          <a:p>
            <a:pPr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 12.33 hodin hlásí pražský rozhlas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na Vinohradech)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99"/>
                </a:solidFill>
                <a:latin typeface="Arial"/>
              </a:rPr>
              <a:t>„Voláme českou policii do rozhlasu, střílí se zde!.... Všichni do českého rozhlasu! Jsou zde stříleni čeští lidé! Přijďte co nejdříve! Přijďte nám na pomoc!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243000" y="4680000"/>
            <a:ext cx="3897360" cy="2762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7380360" y="179280"/>
            <a:ext cx="2340000" cy="34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2:32Z</dcterms:created>
  <dc:creator/>
  <dc:description/>
  <dc:language>en-US</dc:language>
  <cp:lastModifiedBy>Luděk Svoboda</cp:lastModifiedBy>
  <dcterms:modified xsi:type="dcterms:W3CDTF">2020-03-23T12:36:15Z</dcterms:modified>
  <cp:revision>47</cp:revision>
  <dc:subject/>
  <dc:title>Osvobozování území ČSR</dc:title>
</cp:coreProperties>
</file>