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.jpeg" ContentType="image/jpeg"/>
  <Override PartName="/ppt/media/image27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B734-739C-421D-989C-456A724AD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C280-665D-4189-BCDA-C0FB434A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83D7-8A51-4419-B929-7E91CA0EC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B170-FCBD-4B59-B6EE-305B14486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A1E2-DC9E-4770-B6BE-8230933E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F5FA-0EAD-4058-A78A-0792259A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3F41-35F0-4C68-85FB-D43A2CB0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8409-35F5-49BC-AF09-908A1018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CAF0-E676-4B9E-8304-56D6AE56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5F2C-D5EF-471C-9F72-C1EF1CEA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1C2E-8D77-4077-BF7C-44E43851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A48B-3572-47FE-B904-53CBE5EC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59271-4EA6-4B70-A55E-4C90D4ED6EF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hyperlink" Target="https://www.youtube.com/watch?v=U8nnrSlbvIU" TargetMode="External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5010" t="4995" r="15036" b="4995"/>
          <a:stretch/>
        </p:blipFill>
        <p:spPr>
          <a:xfrm>
            <a:off x="-3240" y="0"/>
            <a:ext cx="5943600" cy="4319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759280" y="0"/>
            <a:ext cx="4319640" cy="4500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Železná op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00320" y="1473120"/>
            <a:ext cx="766800" cy="1265400"/>
          </a:xfrm>
          <a:custGeom>
            <a:avLst/>
            <a:gdLst/>
            <a:ahLst/>
            <a:rect l="l" t="t" r="r" b="b"/>
            <a:pathLst>
              <a:path w="2131" h="3515">
                <a:moveTo>
                  <a:pt x="504" y="0"/>
                </a:moveTo>
                <a:cubicBezTo>
                  <a:pt x="0" y="734"/>
                  <a:pt x="1153" y="215"/>
                  <a:pt x="835" y="1074"/>
                </a:cubicBezTo>
                <a:cubicBezTo>
                  <a:pt x="678" y="1502"/>
                  <a:pt x="1101" y="1898"/>
                  <a:pt x="1413" y="2315"/>
                </a:cubicBezTo>
                <a:cubicBezTo>
                  <a:pt x="1610" y="2578"/>
                  <a:pt x="2130" y="3349"/>
                  <a:pt x="1289" y="3348"/>
                </a:cubicBezTo>
                <a:lnTo>
                  <a:pt x="1083" y="3514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0" y="4319640"/>
            <a:ext cx="4122720" cy="3240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3780000" y="4319640"/>
            <a:ext cx="6330960" cy="3230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rcRect l="0" t="0" r="0" b="5020"/>
          <a:stretch/>
        </p:blipFill>
        <p:spPr>
          <a:xfrm>
            <a:off x="1260360" y="1733400"/>
            <a:ext cx="7920000" cy="463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 2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válečný svě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280" y="1800000"/>
            <a:ext cx="907092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Důsledky 2. sv. Vál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3000"/>
              </a:lnSpc>
              <a:spcAft>
                <a:spcPts val="575"/>
              </a:spcAft>
              <a:buClr>
                <a:srgbClr val="000000"/>
              </a:buClr>
              <a:buFont typeface="Arial"/>
              <a:buAutoNum type="alphaLcParenR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konomické, morální, 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3000"/>
              </a:lnSpc>
              <a:spcAft>
                <a:spcPts val="575"/>
              </a:spcAft>
              <a:buClr>
                <a:srgbClr val="000000"/>
              </a:buClr>
              <a:buFont typeface="Arial"/>
              <a:buAutoNum type="alphaLcParenR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tické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0">
              <a:lnSpc>
                <a:spcPct val="93000"/>
              </a:lnSpc>
              <a:spcAft>
                <a:spcPts val="575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Studená válka - ú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3000"/>
              </a:lnSpc>
              <a:spcAft>
                <a:spcPts val="575"/>
              </a:spcAft>
              <a:buClr>
                <a:srgbClr val="000000"/>
              </a:buClr>
              <a:buFont typeface="Arial"/>
              <a:buAutoNum type="alphaLcParenR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áze studené vál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3000"/>
              </a:lnSpc>
              <a:spcAft>
                <a:spcPts val="575"/>
              </a:spcAft>
              <a:buClr>
                <a:srgbClr val="000000"/>
              </a:buClr>
              <a:buFont typeface="Arial"/>
              <a:buAutoNum type="alphaLcParenR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ování západního a východního blo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591160" y="1619280"/>
            <a:ext cx="4129200" cy="2481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400720" y="4859280"/>
            <a:ext cx="4319640" cy="2160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60360" y="2340000"/>
            <a:ext cx="504036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1. 70-85 miliónů mrtvých (50-55 mil. civilistů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539640" y="4859280"/>
            <a:ext cx="4319640" cy="2160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665520" y="2700360"/>
            <a:ext cx="2995560" cy="3600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36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 1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4859280" cy="2879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9640" y="3041640"/>
            <a:ext cx="882036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2. Obrovské materiální škody, Evropa zničena a oslabena válkou.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780000" y="4140360"/>
            <a:ext cx="5940360" cy="3060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119640" y="0"/>
            <a:ext cx="3797640" cy="216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1136520" y="1963800"/>
            <a:ext cx="7143840" cy="4876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40000" y="3240000"/>
            <a:ext cx="5759280" cy="1619280"/>
          </a:xfrm>
          <a:prstGeom prst="roundRect">
            <a:avLst>
              <a:gd name="adj" fmla="val 97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ÚČET“ - 1,3 TRILIONU DOLAR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1 300 000 000 000 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02920" y="1440000"/>
            <a:ext cx="9070920" cy="5703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Zločiny proti míru, válečné zločiny a zločiny proti lidskost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3000"/>
              </a:lnSpc>
              <a:spcAft>
                <a:spcPts val="575"/>
              </a:spcAft>
              <a:buClr>
                <a:srgbClr val="ffffff"/>
              </a:buClr>
              <a:buFont typeface="Arial"/>
              <a:buAutoNum type="alphaLcParenR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oncentrační tábor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Nacistické, Sovětské, Japonsk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3000"/>
              </a:lnSpc>
              <a:spcAft>
                <a:spcPts val="575"/>
              </a:spcAft>
              <a:buClr>
                <a:srgbClr val="ffffff"/>
              </a:buClr>
              <a:buFont typeface="Arial"/>
              <a:buAutoNum type="alphaLcParenR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vražďování obyvatelstva v obsazených oblaste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NN – východní fronta, SSSR - genocida v Pobaltí, Japonsko - Čína, Nan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3000"/>
              </a:lnSpc>
              <a:spcAft>
                <a:spcPts val="575"/>
              </a:spcAft>
              <a:buClr>
                <a:srgbClr val="ffffff"/>
              </a:buClr>
              <a:buFont typeface="Arial"/>
              <a:buAutoNum type="alphaLcParenR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ktika spálené zem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3000"/>
              </a:lnSpc>
              <a:spcAft>
                <a:spcPts val="575"/>
              </a:spcAft>
              <a:buClr>
                <a:srgbClr val="ffffff"/>
              </a:buClr>
              <a:buFont typeface="Arial"/>
              <a:buAutoNum type="alphaLcParenR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bavování majet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3000"/>
              </a:lnSpc>
              <a:spcAft>
                <a:spcPts val="575"/>
              </a:spcAft>
              <a:buClr>
                <a:srgbClr val="ffffff"/>
              </a:buClr>
              <a:buFont typeface="Arial"/>
              <a:buAutoNum type="alphaLcParenR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čení zajtců, pokusy na lidech, znásilňování, rabování, nucené práce, použití zakázaných zbraní a další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00720" y="395280"/>
            <a:ext cx="5040000" cy="3025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60360" y="3959280"/>
            <a:ext cx="5334120" cy="3333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20720" y="720720"/>
            <a:ext cx="36003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aktika spálené zem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480000" y="3959280"/>
            <a:ext cx="2125800" cy="3240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00000" y="1440000"/>
            <a:ext cx="7559640" cy="5040000"/>
          </a:xfrm>
          <a:prstGeom prst="roundRect">
            <a:avLst>
              <a:gd name="adj" fmla="val 28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„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RLZ“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uflockerung (uvolnění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Räumung (vyklizení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Lähmung (ochromení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Zerstörung (zničení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741920" y="3832200"/>
            <a:ext cx="5157720" cy="3187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580000" y="179280"/>
            <a:ext cx="4286160" cy="2610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55760" y="3060720"/>
            <a:ext cx="2965320" cy="4140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79280" y="179280"/>
            <a:ext cx="5040360" cy="25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02920" y="539280"/>
            <a:ext cx="907092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21420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 startAt="3"/>
              <a:tabLst>
                <a:tab algn="l" pos="214200"/>
                <a:tab algn="l" pos="318960"/>
                <a:tab algn="l" pos="768240"/>
                <a:tab algn="l" pos="1217520"/>
                <a:tab algn="l" pos="1666800"/>
                <a:tab algn="l" pos="2116080"/>
                <a:tab algn="l" pos="2565360"/>
                <a:tab algn="l" pos="3014640"/>
                <a:tab algn="l" pos="3463920"/>
                <a:tab algn="l" pos="3913200"/>
                <a:tab algn="l" pos="4362480"/>
                <a:tab algn="l" pos="4811760"/>
                <a:tab algn="l" pos="5261040"/>
                <a:tab algn="l" pos="5710320"/>
                <a:tab algn="l" pos="6159600"/>
                <a:tab algn="l" pos="6608880"/>
                <a:tab algn="l" pos="7058160"/>
                <a:tab algn="l" pos="7507440"/>
                <a:tab algn="l" pos="7956720"/>
                <a:tab algn="l" pos="8405640"/>
                <a:tab algn="l" pos="8854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ický pok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3000"/>
              </a:lnSpc>
              <a:spcAft>
                <a:spcPts val="575"/>
              </a:spcAft>
              <a:buClr>
                <a:srgbClr val="000000"/>
              </a:buClr>
              <a:buFont typeface="Arial"/>
              <a:buAutoNum type="alphaLcParenR"/>
              <a:tabLst>
                <a:tab algn="l" pos="214200"/>
                <a:tab algn="l" pos="318960"/>
                <a:tab algn="l" pos="768240"/>
                <a:tab algn="l" pos="1217520"/>
                <a:tab algn="l" pos="1666800"/>
                <a:tab algn="l" pos="2116080"/>
                <a:tab algn="l" pos="2565360"/>
                <a:tab algn="l" pos="3014640"/>
                <a:tab algn="l" pos="3463920"/>
                <a:tab algn="l" pos="3913200"/>
                <a:tab algn="l" pos="4362480"/>
                <a:tab algn="l" pos="4811760"/>
                <a:tab algn="l" pos="5261040"/>
                <a:tab algn="l" pos="5710320"/>
                <a:tab algn="l" pos="6159600"/>
                <a:tab algn="l" pos="6608880"/>
                <a:tab algn="l" pos="7058160"/>
                <a:tab algn="l" pos="7507440"/>
                <a:tab algn="l" pos="7956720"/>
                <a:tab algn="l" pos="8405640"/>
                <a:tab algn="l" pos="8854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álečná technik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např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udové moto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balistické raket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iletadlová obra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radar, jaderné zbraně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3000"/>
              </a:lnSpc>
              <a:spcAft>
                <a:spcPts val="575"/>
              </a:spcAft>
              <a:buClr>
                <a:srgbClr val="000000"/>
              </a:buClr>
              <a:buFont typeface="Arial"/>
              <a:buAutoNum type="alphaLcParenR"/>
              <a:tabLst>
                <a:tab algn="l" pos="214200"/>
                <a:tab algn="l" pos="318960"/>
                <a:tab algn="l" pos="768240"/>
                <a:tab algn="l" pos="1217520"/>
                <a:tab algn="l" pos="1666800"/>
                <a:tab algn="l" pos="2116080"/>
                <a:tab algn="l" pos="2565360"/>
                <a:tab algn="l" pos="3014640"/>
                <a:tab algn="l" pos="3463920"/>
                <a:tab algn="l" pos="3913200"/>
                <a:tab algn="l" pos="4362480"/>
                <a:tab algn="l" pos="4811760"/>
                <a:tab algn="l" pos="5261040"/>
                <a:tab algn="l" pos="5710320"/>
                <a:tab algn="l" pos="6159600"/>
                <a:tab algn="l" pos="6608880"/>
                <a:tab algn="l" pos="7058160"/>
                <a:tab algn="l" pos="7507440"/>
                <a:tab algn="l" pos="7956720"/>
                <a:tab algn="l" pos="8405640"/>
                <a:tab algn="l" pos="8854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vní počítače, mikrovlná trouba, vteřinové lepidlo...a dalš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3000"/>
              </a:lnSpc>
              <a:spcAft>
                <a:spcPts val="575"/>
              </a:spcAft>
              <a:buClr>
                <a:srgbClr val="000000"/>
              </a:buClr>
              <a:buFont typeface="Arial"/>
              <a:buAutoNum type="alphaLcParenR"/>
              <a:tabLst>
                <a:tab algn="l" pos="214200"/>
                <a:tab algn="l" pos="318960"/>
                <a:tab algn="l" pos="768240"/>
                <a:tab algn="l" pos="1217520"/>
                <a:tab algn="l" pos="1666800"/>
                <a:tab algn="l" pos="2116080"/>
                <a:tab algn="l" pos="2565360"/>
                <a:tab algn="l" pos="3014640"/>
                <a:tab algn="l" pos="3463920"/>
                <a:tab algn="l" pos="3913200"/>
                <a:tab algn="l" pos="4362480"/>
                <a:tab algn="l" pos="4811760"/>
                <a:tab algn="l" pos="5261040"/>
                <a:tab algn="l" pos="5710320"/>
                <a:tab algn="l" pos="6159600"/>
                <a:tab algn="l" pos="6608880"/>
                <a:tab algn="l" pos="7058160"/>
                <a:tab algn="l" pos="7507440"/>
                <a:tab algn="l" pos="7956720"/>
                <a:tab algn="l" pos="8405640"/>
                <a:tab algn="l" pos="8854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ékařství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ůmyslově vyráběný penicilí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859280" y="4500720"/>
            <a:ext cx="5219640" cy="2879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03040" y="4500720"/>
            <a:ext cx="4297680" cy="2879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800360" y="2700360"/>
            <a:ext cx="5905440" cy="4429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659640" y="2700360"/>
            <a:ext cx="3419280" cy="4827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179280" y="2701800"/>
            <a:ext cx="5929560" cy="323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 1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21420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214200"/>
                <a:tab algn="l" pos="318960"/>
                <a:tab algn="l" pos="768240"/>
                <a:tab algn="l" pos="1217520"/>
                <a:tab algn="l" pos="1666800"/>
                <a:tab algn="l" pos="2116080"/>
                <a:tab algn="l" pos="2565360"/>
                <a:tab algn="l" pos="3014640"/>
                <a:tab algn="l" pos="3463920"/>
                <a:tab algn="l" pos="3913200"/>
                <a:tab algn="l" pos="4362480"/>
                <a:tab algn="l" pos="4811760"/>
                <a:tab algn="l" pos="5261040"/>
                <a:tab algn="l" pos="5710320"/>
                <a:tab algn="l" pos="6159600"/>
                <a:tab algn="l" pos="6608880"/>
                <a:tab algn="l" pos="7058160"/>
                <a:tab algn="l" pos="7507440"/>
                <a:tab algn="l" pos="7956720"/>
                <a:tab algn="l" pos="8405640"/>
                <a:tab algn="l" pos="8854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ůst prestiže SSSR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un politiky "do leva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214200"/>
                <a:tab algn="l" pos="318960"/>
                <a:tab algn="l" pos="768240"/>
                <a:tab algn="l" pos="1217520"/>
                <a:tab algn="l" pos="1666800"/>
                <a:tab algn="l" pos="2116080"/>
                <a:tab algn="l" pos="2565360"/>
                <a:tab algn="l" pos="3014640"/>
                <a:tab algn="l" pos="3463920"/>
                <a:tab algn="l" pos="3913200"/>
                <a:tab algn="l" pos="4362480"/>
                <a:tab algn="l" pos="4811760"/>
                <a:tab algn="l" pos="5261040"/>
                <a:tab algn="l" pos="5710320"/>
                <a:tab algn="l" pos="6159600"/>
                <a:tab algn="l" pos="6608880"/>
                <a:tab algn="l" pos="7058160"/>
                <a:tab algn="l" pos="7507440"/>
                <a:tab algn="l" pos="7956720"/>
                <a:tab algn="l" pos="8405640"/>
                <a:tab algn="l" pos="8854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zpad koloniální soust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214200"/>
                <a:tab algn="l" pos="318960"/>
                <a:tab algn="l" pos="768240"/>
                <a:tab algn="l" pos="1217520"/>
                <a:tab algn="l" pos="1666800"/>
                <a:tab algn="l" pos="2116080"/>
                <a:tab algn="l" pos="2565360"/>
                <a:tab algn="l" pos="3014640"/>
                <a:tab algn="l" pos="3463920"/>
                <a:tab algn="l" pos="3913200"/>
                <a:tab algn="l" pos="4362480"/>
                <a:tab algn="l" pos="4811760"/>
                <a:tab algn="l" pos="5261040"/>
                <a:tab algn="l" pos="5710320"/>
                <a:tab algn="l" pos="6159600"/>
                <a:tab algn="l" pos="6608880"/>
                <a:tab algn="l" pos="7058160"/>
                <a:tab algn="l" pos="7507440"/>
                <a:tab algn="l" pos="7956720"/>
                <a:tab algn="l" pos="8405640"/>
                <a:tab algn="l" pos="8854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znik OS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214200"/>
                <a:tab algn="l" pos="318960"/>
                <a:tab algn="l" pos="768240"/>
                <a:tab algn="l" pos="1217520"/>
                <a:tab algn="l" pos="1666800"/>
                <a:tab algn="l" pos="2116080"/>
                <a:tab algn="l" pos="2565360"/>
                <a:tab algn="l" pos="3014640"/>
                <a:tab algn="l" pos="3463920"/>
                <a:tab algn="l" pos="3913200"/>
                <a:tab algn="l" pos="4362480"/>
                <a:tab algn="l" pos="4811760"/>
                <a:tab algn="l" pos="5261040"/>
                <a:tab algn="l" pos="5710320"/>
                <a:tab algn="l" pos="6159600"/>
                <a:tab algn="l" pos="6608880"/>
                <a:tab algn="l" pos="7058160"/>
                <a:tab algn="l" pos="7507440"/>
                <a:tab algn="l" pos="7956720"/>
                <a:tab algn="l" pos="8405640"/>
                <a:tab algn="l" pos="8854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měny hranic v Evropě a odsun Němc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214200"/>
                <a:tab algn="l" pos="318960"/>
                <a:tab algn="l" pos="768240"/>
                <a:tab algn="l" pos="1217520"/>
                <a:tab algn="l" pos="1666800"/>
                <a:tab algn="l" pos="2116080"/>
                <a:tab algn="l" pos="2565360"/>
                <a:tab algn="l" pos="3014640"/>
                <a:tab algn="l" pos="3463920"/>
                <a:tab algn="l" pos="3913200"/>
                <a:tab algn="l" pos="4362480"/>
                <a:tab algn="l" pos="4811760"/>
                <a:tab algn="l" pos="5261040"/>
                <a:tab algn="l" pos="5710320"/>
                <a:tab algn="l" pos="6159600"/>
                <a:tab algn="l" pos="6608880"/>
                <a:tab algn="l" pos="7058160"/>
                <a:tab algn="l" pos="7507440"/>
                <a:tab algn="l" pos="7956720"/>
                <a:tab algn="l" pos="8405640"/>
                <a:tab algn="l" pos="8854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ování dvou mocenských blo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4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214200"/>
                <a:tab algn="l" pos="318960"/>
                <a:tab algn="l" pos="768240"/>
                <a:tab algn="l" pos="1217520"/>
                <a:tab algn="l" pos="1666800"/>
                <a:tab algn="l" pos="2116080"/>
                <a:tab algn="l" pos="2565360"/>
                <a:tab algn="l" pos="3014640"/>
                <a:tab algn="l" pos="3463920"/>
                <a:tab algn="l" pos="3913200"/>
                <a:tab algn="l" pos="4362480"/>
                <a:tab algn="l" pos="4811760"/>
                <a:tab algn="l" pos="5261040"/>
                <a:tab algn="l" pos="5710320"/>
                <a:tab algn="l" pos="6159600"/>
                <a:tab algn="l" pos="6608880"/>
                <a:tab algn="l" pos="7058160"/>
                <a:tab algn="l" pos="7507440"/>
                <a:tab algn="l" pos="7956720"/>
                <a:tab algn="l" pos="8405640"/>
                <a:tab algn="l" pos="8854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60280" y="4500720"/>
            <a:ext cx="2619360" cy="1742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060720" y="4500720"/>
            <a:ext cx="6692760" cy="2830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87240" y="1440000"/>
            <a:ext cx="8672760" cy="50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9:32:32Z</dcterms:created>
  <dc:creator/>
  <dc:description/>
  <dc:language>en-US</dc:language>
  <cp:lastModifiedBy/>
  <dcterms:modified xsi:type="dcterms:W3CDTF">2020-04-05T13:13:14Z</dcterms:modified>
  <cp:revision>50</cp:revision>
  <dc:subject/>
  <dc:title/>
</cp:coreProperties>
</file>