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1E1-61F7-45B4-9E5E-AB47FA9F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6B3-67A3-4794-8E7B-9C234042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070-0605-4ACB-A6ED-CA7E564F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71E-614A-428A-AE2D-3D58776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F5A-94A4-42B4-A82E-F6CCE29C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2A3-1AB1-4848-A5DB-EE45E7A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906-AC92-467B-B815-99F2E2B2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65C-9358-4732-ABDB-681E3F30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C7-5BCC-4B0C-B42F-451629B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750-BF1E-4029-92DB-4DF4570E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80B-5C8F-4001-A1D5-4AAA6F0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852-57EB-4EAA-9660-0CE4B93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3983-11C9-4CA2-8B0F-98751447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s://www.youtube.com/watch?v=U8nnrSlbvIU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á válka -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5943600" cy="43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59280" y="0"/>
            <a:ext cx="4319640" cy="45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Železná o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0320" y="1473120"/>
            <a:ext cx="766800" cy="1265400"/>
          </a:xfrm>
          <a:custGeom>
            <a:avLst/>
            <a:gdLst/>
            <a:ahLst/>
            <a:rect l="l" t="t" r="r" b="b"/>
            <a:pathLst>
              <a:path w="2131" h="3515">
                <a:moveTo>
                  <a:pt x="504" y="0"/>
                </a:moveTo>
                <a:cubicBezTo>
                  <a:pt x="0" y="734"/>
                  <a:pt x="1153" y="215"/>
                  <a:pt x="835" y="1074"/>
                </a:cubicBezTo>
                <a:cubicBezTo>
                  <a:pt x="678" y="1502"/>
                  <a:pt x="1101" y="1898"/>
                  <a:pt x="1413" y="2315"/>
                </a:cubicBezTo>
                <a:cubicBezTo>
                  <a:pt x="1610" y="2578"/>
                  <a:pt x="2130" y="3349"/>
                  <a:pt x="1289" y="3348"/>
                </a:cubicBezTo>
                <a:lnTo>
                  <a:pt x="1083" y="351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4319640"/>
            <a:ext cx="412272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780000" y="4319640"/>
            <a:ext cx="6330960" cy="323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260360" y="1733400"/>
            <a:ext cx="7920000" cy="46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1. Fá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) Kominforma a Trumenova doktrí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 První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9070920" cy="74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pětí v Řecku (občanská válka) a Turecku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rumenova doktrín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 politika zadržování komunis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dpora Řecka a Turecka + Evropa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shallův plá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1948)= ekonomická pomoc od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inform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spojení všech komnistických stran pod vedením 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a státy východního bloku odmítly MP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VHP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1949) = hospodářská spolupráce východního bl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2120" y="123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0160" y="0"/>
            <a:ext cx="762948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720" y="2340000"/>
            <a:ext cx="6119640" cy="180036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mě, které přijaly Marshallův plán mají v r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51 alespoň o 35% vyšší produktivitu než v roce 193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2)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ůst prestiže SS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un evropské politiky "do leva" → evropský sociální stát, znárodň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pad koloniální sousta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louhodob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nik 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hranic v Evropě a odsun Něm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ování dvou mocenských bl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028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60720" y="4500720"/>
            <a:ext cx="6692760" cy="2830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240" y="1440000"/>
            <a:ext cx="86727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Změny hranic v Evrop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olsko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 200 km na záp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ýchod Polska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dkarpatská Rus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liningradská oblast → SSS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Vysídlení Němc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váleno velmocemi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ž 12 milión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incip kolektivní 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24480" y="0"/>
            <a:ext cx="4656240" cy="755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720720"/>
            <a:ext cx="684036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12680"/>
            <a:ext cx="7620120" cy="366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00680" y="4140360"/>
            <a:ext cx="5000400" cy="3190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0" y="4500720"/>
            <a:ext cx="47862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181080"/>
            <a:ext cx="20750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OSN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( říjen 1945, San Francisco USA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větoví mír, ochrana lidských práv, rovnoprávnost národů, zlepšování životní úro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arta OS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90640" indent="-4428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obecná deklarace lidských 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90640" indent="-4428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měšování se do vnitřních záležit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19640" y="4140360"/>
            <a:ext cx="306036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né schromáždění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59280" y="2877840"/>
            <a:ext cx="1800" cy="10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60360"/>
            <a:ext cx="5940360" cy="2340000"/>
          </a:xfrm>
          <a:prstGeom prst="roundRect">
            <a:avLst>
              <a:gd name="adj" fmla="val 6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álí členové (5) – Právo v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časní členové (10) - voleni na 2 ro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achování mí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60720" y="996840"/>
            <a:ext cx="3718080" cy="80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3060720"/>
            <a:ext cx="251964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zinárodní sou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vůr 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ory mezi státy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38560" y="3778200"/>
            <a:ext cx="54288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5940360"/>
            <a:ext cx="306072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spodářská a sociál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větová životní úrov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98920" y="5400720"/>
            <a:ext cx="542880" cy="3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19640" y="3778200"/>
            <a:ext cx="126072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9640" y="306072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ální tajem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en na 5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jvyšší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7160" y="0"/>
            <a:ext cx="8953200" cy="75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1946 – 1953 1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1953-1960 2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tlač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60. léta  3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70.-80. léta 4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uvolň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2b)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4720" y="1770120"/>
          <a:ext cx="8242200" cy="1842840"/>
        </p:xfrm>
        <a:graphic>
          <a:graphicData uri="http://schemas.openxmlformats.org/drawingml/2006/table">
            <a:tbl>
              <a:tblPr/>
              <a:tblGrid>
                <a:gridCol w="2097720"/>
                <a:gridCol w="2751480"/>
                <a:gridCol w="339300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c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m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jenská a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O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šavská smlouva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Evr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halův pl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ové zbra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4-13T08:20:45Z</dcterms:modified>
  <cp:revision>61</cp:revision>
  <dc:subject/>
  <dc:title/>
</cp:coreProperties>
</file>