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FE6B4-6FA3-4C26-B8FF-AECC95885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2F1-5DD3-493A-B78B-0EC1CA5F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D6C-98EB-4B12-885D-C658CD54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00E-27F2-4FDE-9F20-AFD94E8B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EB4-6239-4DF6-B4E0-B6B429EE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C5B-8D39-4C0C-AD85-7246CEB8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4C3-5848-465E-B16F-A754F13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149-17F9-4ADC-ABBA-FD71FC6D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7B7-FED6-4B4F-951B-0C626AF9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DEA-BC39-4575-9485-C0F8001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1FD-ADCB-49C6-90F5-DD0C2DB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278-6224-4270-8F6F-073BD76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611-E987-4912-893D-08BB901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7743A-6AC9-4EF5-B14D-9C44444A00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s://www.youtube.com/watch?v=U8nnrSlbvIU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á válka -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240" y="0"/>
            <a:ext cx="5943600" cy="43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59280" y="0"/>
            <a:ext cx="4319640" cy="45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Železná o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0320" y="1473120"/>
            <a:ext cx="766800" cy="1265400"/>
          </a:xfrm>
          <a:custGeom>
            <a:avLst/>
            <a:gdLst/>
            <a:ahLst/>
            <a:rect l="l" t="t" r="r" b="b"/>
            <a:pathLst>
              <a:path w="2131" h="3515">
                <a:moveTo>
                  <a:pt x="504" y="0"/>
                </a:moveTo>
                <a:cubicBezTo>
                  <a:pt x="0" y="734"/>
                  <a:pt x="1153" y="215"/>
                  <a:pt x="835" y="1074"/>
                </a:cubicBezTo>
                <a:cubicBezTo>
                  <a:pt x="678" y="1502"/>
                  <a:pt x="1101" y="1898"/>
                  <a:pt x="1413" y="2315"/>
                </a:cubicBezTo>
                <a:cubicBezTo>
                  <a:pt x="1610" y="2578"/>
                  <a:pt x="2130" y="3349"/>
                  <a:pt x="1289" y="3348"/>
                </a:cubicBezTo>
                <a:lnTo>
                  <a:pt x="1083" y="351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4319640"/>
            <a:ext cx="4122720" cy="32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780000" y="4319640"/>
            <a:ext cx="6330960" cy="323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1260360" y="1733400"/>
            <a:ext cx="7920000" cy="46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1. Fá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) Kominforma a Trumenova doktrí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) První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) Korejská vá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9070920" cy="74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pětí v Řecku (občanská válka) a Turecku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rumenova doktrín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 politika zadržování komunis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dpora Řecka a Turecka + Evropa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shallův plá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1948)= ekonomická pomoc od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inform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spojení všech komnistických stran pod vedením 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a státy východního bloku odmítly MP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VHP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1949) = hospodářská spolupráce východního bl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2120" y="123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70160" y="0"/>
            <a:ext cx="7629480" cy="755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60720" y="2340000"/>
            <a:ext cx="6119640" cy="180036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mě, které přijaly Marshallův plán mají v r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51 alespoň o 35% vyšší produktivitu než v roce 193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2) Berlínská krize (1948-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ory o směřování Němec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jednocení částí USA VB a FR + zavedení nové měny (marky) → Sovětská blokáda západního Berl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49 – vznik SRN a N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5580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00720" y="3959280"/>
            <a:ext cx="41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,2 mil. oby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ně na 12 000 tun potravin a p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 měsí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0 mrtvých let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vy Berlíňanů čekajíc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směnár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19640" y="3774960"/>
            <a:ext cx="4425840" cy="3065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3840" y="3726000"/>
            <a:ext cx="4286160" cy="311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111640" y="684360"/>
            <a:ext cx="4500720" cy="2700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bankovky v Trizo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obování Berl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46760" y="1619280"/>
            <a:ext cx="3333600" cy="473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30080" y="1441440"/>
            <a:ext cx="3949920" cy="341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58800" y="5075280"/>
            <a:ext cx="43815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8720" y="360360"/>
            <a:ext cx="907092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 3)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rejská vál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v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ovládli komunisté –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im Ir - 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i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lby s podporou OSN – formálně demokratick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5. červn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950 – napadení jihu komunistickým sever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neformálně podporován SSSR a Číno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oluce OS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OSN + USA vojenská podpora jih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řídavé úspěchy →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červen 1953 poloostrov rozdělen podél 38. rovnoběžky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– demilitarizované pásmo → trvá do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80360" y="179280"/>
            <a:ext cx="1440000" cy="251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79640" y="539640"/>
            <a:ext cx="828036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ůst prestiže SSS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un evropské politiky "do leva" → evropský sociální stát, znárodň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pad koloniální sousta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louhodob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nik O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hranic v Evropě a odsun Něm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ování dvou mocenských blo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0280" y="450072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60720" y="4500720"/>
            <a:ext cx="6692760" cy="283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7240" y="1440000"/>
            <a:ext cx="86727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Změny hranic v Evrop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olsko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 200 km na záp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ýchod Polska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dkarpatská Rus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liningradská oblast → SSS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Vysídlení Němc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váleno velmocemi,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d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ž 12 milión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incip kolektivní 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24480" y="0"/>
            <a:ext cx="4656240" cy="755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720720"/>
            <a:ext cx="684036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112680"/>
            <a:ext cx="7620120" cy="366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00680" y="4140360"/>
            <a:ext cx="5000400" cy="319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3080" y="4500720"/>
            <a:ext cx="4786200" cy="27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9280" y="181080"/>
            <a:ext cx="20750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OSN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( říjen 1945, San Francisco USA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větoví mír, ochrana lidských práv, rovnoprávnost národů, zlepšování životní úro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arta OS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4431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šeobecná deklarace lidských 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4431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měšování se do vnitřních záležit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19640" y="4140360"/>
            <a:ext cx="3060360" cy="19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lné schromáždění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2876040"/>
            <a:ext cx="1800" cy="108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360360"/>
            <a:ext cx="5940360" cy="2340000"/>
          </a:xfrm>
          <a:prstGeom prst="roundRect">
            <a:avLst>
              <a:gd name="adj" fmla="val 6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d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álí členové (5) – Právo v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časní členové (10) - voleni na 2 ro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achování mí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60720" y="996840"/>
            <a:ext cx="3718080" cy="80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3060720"/>
            <a:ext cx="251964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zinárodní sou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vůr 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ory mezi státy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236400" y="3776400"/>
            <a:ext cx="546120" cy="54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5940360"/>
            <a:ext cx="3060720" cy="126072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spodářská a sociál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větová životní úrov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96760" y="5400720"/>
            <a:ext cx="546120" cy="360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119640" y="3776400"/>
            <a:ext cx="1260720" cy="54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9640" y="3060720"/>
            <a:ext cx="234000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ální tajem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en na 5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jvyšší orgán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7160" y="0"/>
            <a:ext cx="8953200" cy="75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1946 – 1953 1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1953-1960 2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tlač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60. léta  3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h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70.-80. léta 4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uvolň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2b)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04720" y="1770120"/>
          <a:ext cx="8242200" cy="1842840"/>
        </p:xfrm>
        <a:graphic>
          <a:graphicData uri="http://schemas.openxmlformats.org/drawingml/2006/table">
            <a:tbl>
              <a:tblPr/>
              <a:tblGrid>
                <a:gridCol w="2097720"/>
                <a:gridCol w="2751480"/>
                <a:gridCol w="3393000"/>
              </a:tblGrid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l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Záp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ýc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lm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S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ojenská a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ATO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aršavská smlouva 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bnova Evr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arshalův pl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V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tomové zbra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d 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d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4-19T19:04:56Z</dcterms:modified>
  <cp:revision>72</cp:revision>
  <dc:subject/>
  <dc:title/>
</cp:coreProperties>
</file>