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BB5F-27C5-49CD-AD86-42A6ABBE7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E9DD-5B90-44A6-AD2D-7FEB8C16A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F1AD-84E7-4FCC-AFE6-8064011BF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EAF7-1D03-44B9-8090-73C5DE35F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114A-4431-4FFF-9D81-4EF56CF84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10BF-EDE2-4293-BAEB-DC57FB7B3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36FC-75D7-46B3-8B81-D2ECF8F18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F2B3-31B9-4B30-A244-5579D477B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D8EE-B6D0-4EE1-A0FE-DB8A8753A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BF18-14E9-4B74-9AD3-5107566FE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922A-9FBC-43CA-9041-932C1CC5E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9AFD-8598-4761-92C3-08212A2C1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00BCE3-7892-4766-BDA2-3FA71CCABC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hyperlink" Target="https://www.youtube.com/watch?v=U8nnrSlbvIU" TargetMode="External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03280" y="301680"/>
            <a:ext cx="9070920" cy="645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á válka - Úv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-3240" y="0"/>
            <a:ext cx="5943600" cy="43196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5759280" y="0"/>
            <a:ext cx="4319640" cy="45007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Železná opo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200320" y="1473120"/>
            <a:ext cx="766800" cy="1265400"/>
          </a:xfrm>
          <a:custGeom>
            <a:avLst/>
            <a:gdLst/>
            <a:ahLst/>
            <a:rect l="l" t="t" r="r" b="b"/>
            <a:pathLst>
              <a:path w="2131" h="3515">
                <a:moveTo>
                  <a:pt x="504" y="0"/>
                </a:moveTo>
                <a:cubicBezTo>
                  <a:pt x="0" y="734"/>
                  <a:pt x="1153" y="215"/>
                  <a:pt x="835" y="1074"/>
                </a:cubicBezTo>
                <a:cubicBezTo>
                  <a:pt x="678" y="1502"/>
                  <a:pt x="1101" y="1898"/>
                  <a:pt x="1413" y="2315"/>
                </a:cubicBezTo>
                <a:cubicBezTo>
                  <a:pt x="1610" y="2578"/>
                  <a:pt x="2130" y="3349"/>
                  <a:pt x="1289" y="3348"/>
                </a:cubicBezTo>
                <a:lnTo>
                  <a:pt x="1083" y="3514"/>
                </a:lnTo>
              </a:path>
            </a:pathLst>
          </a:custGeom>
          <a:noFill/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0" y="4319640"/>
            <a:ext cx="4122720" cy="32400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5"/>
          <a:stretch/>
        </p:blipFill>
        <p:spPr>
          <a:xfrm>
            <a:off x="3780000" y="4319640"/>
            <a:ext cx="6330960" cy="32306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6"/>
          <a:stretch/>
        </p:blipFill>
        <p:spPr>
          <a:xfrm>
            <a:off x="1260360" y="1733400"/>
            <a:ext cx="7920000" cy="463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dur="indefinite" fill="hold">
                      <p:stCondLst>
                        <p:cond delay="indefinite"/>
                      </p:stCondLst>
                      <p:childTnLst>
                        <p:par>
                          <p:cTn id="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1. Fáz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1) Kominforma a Trumenova doktrína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2) První Berlínská kr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Ad 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60000" y="1260000"/>
            <a:ext cx="9070920" cy="74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Napětí v Řecku (občanská válka) a Turecku →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Trumenova doktrína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=  politika zadržování komunism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odpora Řecka a Turecka + Evropa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Marshallův plán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(1948)= ekonomická pomoc od US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SSSR →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Kominforma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= spojení všech komnistických stran pod vedením SSS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SSSR a státy východního bloku odmítly MP →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VHP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(1949) = hospodářská spolupráce východního blo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92120" y="12384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1370160" y="0"/>
            <a:ext cx="7629480" cy="75596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2160720" y="2340000"/>
            <a:ext cx="6119640" cy="1800360"/>
          </a:xfrm>
          <a:prstGeom prst="roundRect">
            <a:avLst>
              <a:gd name="adj" fmla="val 88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Země, které přijaly Marshallův plán mají v ro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951 alespoň o 35% vyšší produktivitu než v roce 1938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dur="indefinite" fill="hold">
                      <p:stCondLst>
                        <p:cond delay="indefinite"/>
                      </p:stCondLst>
                      <p:childTnLst>
                        <p:par>
                          <p:cTn id="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dur="indefinite" fill="hold">
                      <p:stCondLst>
                        <p:cond delay="indefinite"/>
                      </p:stCondLst>
                      <p:childTnLst>
                        <p:par>
                          <p:cTn id="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Ad 2) Berlínská kr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 1b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21600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lphaUcParenR"/>
              <a:tabLst>
                <a:tab algn="l" pos="216000"/>
                <a:tab algn="l" pos="320760"/>
                <a:tab algn="l" pos="770040"/>
                <a:tab algn="l" pos="1219320"/>
                <a:tab algn="l" pos="1668600"/>
                <a:tab algn="l" pos="2117880"/>
                <a:tab algn="l" pos="2567160"/>
                <a:tab algn="l" pos="3016080"/>
                <a:tab algn="l" pos="3465360"/>
                <a:tab algn="l" pos="3914640"/>
                <a:tab algn="l" pos="4363920"/>
                <a:tab algn="l" pos="4813200"/>
                <a:tab algn="l" pos="5262480"/>
                <a:tab algn="l" pos="5711760"/>
                <a:tab algn="l" pos="6161040"/>
                <a:tab algn="l" pos="6610320"/>
                <a:tab algn="l" pos="7059600"/>
                <a:tab algn="l" pos="7508880"/>
                <a:tab algn="l" pos="7958160"/>
                <a:tab algn="l" pos="8407440"/>
                <a:tab algn="l" pos="8856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ůst prestiže SSSR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sun evropské politiky "do leva" → evropský sociální stát, znárodňování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lphaUcParenR"/>
              <a:tabLst>
                <a:tab algn="l" pos="216000"/>
                <a:tab algn="l" pos="320760"/>
                <a:tab algn="l" pos="770040"/>
                <a:tab algn="l" pos="1219320"/>
                <a:tab algn="l" pos="1668600"/>
                <a:tab algn="l" pos="2117880"/>
                <a:tab algn="l" pos="2567160"/>
                <a:tab algn="l" pos="3016080"/>
                <a:tab algn="l" pos="3465360"/>
                <a:tab algn="l" pos="3914640"/>
                <a:tab algn="l" pos="4363920"/>
                <a:tab algn="l" pos="4813200"/>
                <a:tab algn="l" pos="5262480"/>
                <a:tab algn="l" pos="5711760"/>
                <a:tab algn="l" pos="6161040"/>
                <a:tab algn="l" pos="6610320"/>
                <a:tab algn="l" pos="7059600"/>
                <a:tab algn="l" pos="7508880"/>
                <a:tab algn="l" pos="7958160"/>
                <a:tab algn="l" pos="8407440"/>
                <a:tab algn="l" pos="8856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zpad koloniální soustav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dlouhodobý pro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lphaUcParenR"/>
              <a:tabLst>
                <a:tab algn="l" pos="216000"/>
                <a:tab algn="l" pos="320760"/>
                <a:tab algn="l" pos="770040"/>
                <a:tab algn="l" pos="1219320"/>
                <a:tab algn="l" pos="1668600"/>
                <a:tab algn="l" pos="2117880"/>
                <a:tab algn="l" pos="2567160"/>
                <a:tab algn="l" pos="3016080"/>
                <a:tab algn="l" pos="3465360"/>
                <a:tab algn="l" pos="3914640"/>
                <a:tab algn="l" pos="4363920"/>
                <a:tab algn="l" pos="4813200"/>
                <a:tab algn="l" pos="5262480"/>
                <a:tab algn="l" pos="5711760"/>
                <a:tab algn="l" pos="6161040"/>
                <a:tab algn="l" pos="6610320"/>
                <a:tab algn="l" pos="7059600"/>
                <a:tab algn="l" pos="7508880"/>
                <a:tab algn="l" pos="7958160"/>
                <a:tab algn="l" pos="8407440"/>
                <a:tab algn="l" pos="8856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znik OS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lphaUcParenR"/>
              <a:tabLst>
                <a:tab algn="l" pos="216000"/>
                <a:tab algn="l" pos="320760"/>
                <a:tab algn="l" pos="770040"/>
                <a:tab algn="l" pos="1219320"/>
                <a:tab algn="l" pos="1668600"/>
                <a:tab algn="l" pos="2117880"/>
                <a:tab algn="l" pos="2567160"/>
                <a:tab algn="l" pos="3016080"/>
                <a:tab algn="l" pos="3465360"/>
                <a:tab algn="l" pos="3914640"/>
                <a:tab algn="l" pos="4363920"/>
                <a:tab algn="l" pos="4813200"/>
                <a:tab algn="l" pos="5262480"/>
                <a:tab algn="l" pos="5711760"/>
                <a:tab algn="l" pos="6161040"/>
                <a:tab algn="l" pos="6610320"/>
                <a:tab algn="l" pos="7059600"/>
                <a:tab algn="l" pos="7508880"/>
                <a:tab algn="l" pos="7958160"/>
                <a:tab algn="l" pos="8407440"/>
                <a:tab algn="l" pos="8856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Změny hranic v Evropě a odsun Němc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lphaUcParenR"/>
              <a:tabLst>
                <a:tab algn="l" pos="216000"/>
                <a:tab algn="l" pos="320760"/>
                <a:tab algn="l" pos="770040"/>
                <a:tab algn="l" pos="1219320"/>
                <a:tab algn="l" pos="1668600"/>
                <a:tab algn="l" pos="2117880"/>
                <a:tab algn="l" pos="2567160"/>
                <a:tab algn="l" pos="3016080"/>
                <a:tab algn="l" pos="3465360"/>
                <a:tab algn="l" pos="3914640"/>
                <a:tab algn="l" pos="4363920"/>
                <a:tab algn="l" pos="4813200"/>
                <a:tab algn="l" pos="5262480"/>
                <a:tab algn="l" pos="5711760"/>
                <a:tab algn="l" pos="6161040"/>
                <a:tab algn="l" pos="6610320"/>
                <a:tab algn="l" pos="7059600"/>
                <a:tab algn="l" pos="7508880"/>
                <a:tab algn="l" pos="7958160"/>
                <a:tab algn="l" pos="8407440"/>
                <a:tab algn="l" pos="8856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mování dvou mocenských blok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42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216000"/>
                <a:tab algn="l" pos="320760"/>
                <a:tab algn="l" pos="770040"/>
                <a:tab algn="l" pos="1219320"/>
                <a:tab algn="l" pos="1668600"/>
                <a:tab algn="l" pos="2117880"/>
                <a:tab algn="l" pos="2567160"/>
                <a:tab algn="l" pos="3016080"/>
                <a:tab algn="l" pos="3465360"/>
                <a:tab algn="l" pos="3914640"/>
                <a:tab algn="l" pos="4363920"/>
                <a:tab algn="l" pos="4813200"/>
                <a:tab algn="l" pos="5262480"/>
                <a:tab algn="l" pos="5711760"/>
                <a:tab algn="l" pos="6161040"/>
                <a:tab algn="l" pos="6610320"/>
                <a:tab algn="l" pos="7059600"/>
                <a:tab algn="l" pos="7508880"/>
                <a:tab algn="l" pos="7958160"/>
                <a:tab algn="l" pos="8407440"/>
                <a:tab algn="l" pos="8856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60280" y="4500720"/>
            <a:ext cx="2619360" cy="17427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060720" y="4500720"/>
            <a:ext cx="6692760" cy="28303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687240" y="1440000"/>
            <a:ext cx="8672760" cy="504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502920" y="720360"/>
            <a:ext cx="9070920" cy="6039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3200" spc="-1" strike="noStrike" u="sng">
                <a:solidFill>
                  <a:srgbClr val="000000"/>
                </a:solidFill>
                <a:uFillTx/>
                <a:latin typeface="Arial"/>
              </a:rPr>
              <a:t>Změny hranic v Evropě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Polsko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→  200 km na zápa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Východ Polska → SS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Podkarpatská Rus → SS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Kaliningradská oblast → SSSR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Vysídlení Němc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Schváleno velmocemi,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ods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ž 12 milión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Princip kolektivní vi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424480" y="0"/>
            <a:ext cx="4656240" cy="75596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619280" y="720720"/>
            <a:ext cx="6840360" cy="6248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dur="indefinite" fill="hold">
                      <p:stCondLst>
                        <p:cond delay="indefinite"/>
                      </p:stCondLst>
                      <p:childTnLst>
                        <p:par>
                          <p:cTn id="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340000" y="112680"/>
            <a:ext cx="7620120" cy="36673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4900680" y="4140360"/>
            <a:ext cx="5000400" cy="31906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73080" y="4500720"/>
            <a:ext cx="4786200" cy="27003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179280" y="181080"/>
            <a:ext cx="2075040" cy="34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3200" spc="-1" strike="noStrike" u="sng">
                <a:solidFill>
                  <a:srgbClr val="000000"/>
                </a:solidFill>
                <a:uFillTx/>
                <a:latin typeface="Arial"/>
              </a:rPr>
              <a:t>OSN </a:t>
            </a:r>
            <a:r>
              <a:rPr b="0" lang="de-DE" sz="3200" spc="-1" strike="noStrike" u="sng">
                <a:solidFill>
                  <a:srgbClr val="000000"/>
                </a:solidFill>
                <a:uFillTx/>
                <a:latin typeface="Arial"/>
              </a:rPr>
              <a:t>( říjen 1945, San Francisco USA)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8720" indent="-55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Cíle: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světoví mír, ochrana lidských práv, rovnoprávnost národů, zlepšování životní úrovn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8720" indent="-55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Charta OS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790640" indent="-44280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šeobecná deklarace lidských prá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790640" indent="-44280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vměšování se do vnitřních záležitost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419640" y="4140360"/>
            <a:ext cx="3060360" cy="19792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Valné schromáždění OS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859280" y="2877840"/>
            <a:ext cx="1800" cy="1082520"/>
          </a:xfrm>
          <a:prstGeom prst="line">
            <a:avLst/>
          </a:prstGeom>
          <a:ln w="36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79640" y="360360"/>
            <a:ext cx="5940360" cy="2340000"/>
          </a:xfrm>
          <a:prstGeom prst="roundRect">
            <a:avLst>
              <a:gd name="adj" fmla="val 65"/>
            </a:avLst>
          </a:prstGeom>
          <a:solidFill>
            <a:srgbClr val="ff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Rada bezpeč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álí členové (5) – Právo ve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očasní členové (10) - voleni na 2 rok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Zachování mí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060720" y="996840"/>
            <a:ext cx="3718080" cy="8017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539640" y="3060720"/>
            <a:ext cx="2519640" cy="1260360"/>
          </a:xfrm>
          <a:prstGeom prst="roundRect">
            <a:avLst>
              <a:gd name="adj" fmla="val 125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Mezinárodní soudn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vůr (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pory mezi státy OS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 flipV="1">
            <a:off x="3238560" y="3778200"/>
            <a:ext cx="542880" cy="542880"/>
          </a:xfrm>
          <a:prstGeom prst="line">
            <a:avLst/>
          </a:prstGeom>
          <a:ln w="36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60360" y="5940360"/>
            <a:ext cx="3060720" cy="1260720"/>
          </a:xfrm>
          <a:prstGeom prst="roundRect">
            <a:avLst>
              <a:gd name="adj" fmla="val 125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Hospodářská a sociální r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větová životní úrove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2698920" y="5400720"/>
            <a:ext cx="542880" cy="360360"/>
          </a:xfrm>
          <a:prstGeom prst="line">
            <a:avLst/>
          </a:prstGeom>
          <a:ln w="36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6119640" y="3778200"/>
            <a:ext cx="1260720" cy="542880"/>
          </a:xfrm>
          <a:prstGeom prst="line">
            <a:avLst/>
          </a:prstGeom>
          <a:ln w="36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559640" y="3060720"/>
            <a:ext cx="234000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Generální tajemní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olen na 5 l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Nejvyšší orgán OS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27160" y="0"/>
            <a:ext cx="8953200" cy="750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 2a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) 1946 – 1953 1. Fáz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dobí zadržování komunis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) 1953-1960 2. Fáz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dobí zatlačování komunis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) 60. léta  3. Fáz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uhé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dobí zadržování komunis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) 70.-80. léta 4. Fáz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dobí uvolňov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Ad 2b)</a:t>
            </a: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504720" y="1770120"/>
          <a:ext cx="8242200" cy="1842840"/>
        </p:xfrm>
        <a:graphic>
          <a:graphicData uri="http://schemas.openxmlformats.org/drawingml/2006/table">
            <a:tbl>
              <a:tblPr/>
              <a:tblGrid>
                <a:gridCol w="2097720"/>
                <a:gridCol w="2751480"/>
                <a:gridCol w="3393000"/>
              </a:tblGrid>
              <a:tr h="368280"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o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áp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ch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36864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lmo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SS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6864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jenská ali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TO 19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ršavská smlouva 19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ff"/>
                    </a:solidFill>
                  </a:tcPr>
                </a:tc>
              </a:tr>
              <a:tr h="36864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nova Evrop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shalův plá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VH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6864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omové zbraně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 19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 19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f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9:32:32Z</dcterms:created>
  <dc:creator/>
  <dc:description/>
  <dc:language>en-US</dc:language>
  <cp:lastModifiedBy/>
  <dcterms:modified xsi:type="dcterms:W3CDTF">2020-04-13T08:20:45Z</dcterms:modified>
  <cp:revision>61</cp:revision>
  <dc:subject/>
  <dc:title/>
</cp:coreProperties>
</file>