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211-47BA-4C8F-85C7-562C824A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CC1-F2ED-44BF-ABB7-DF225D06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F57-3D7C-45E0-B920-B950744E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67A-9AAA-4B74-9D66-4248011E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82E6-E543-4241-83A5-545A2EB3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7F8A-A425-4E73-9137-4C167DD3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7352-4DD7-4091-881C-83F65890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FB1D-00C8-42E3-9102-69E4F69B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FABD-C223-49F8-B8EF-52A16D75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66A2-731A-45C8-B12B-BC852B4F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D854-6EF1-46BE-B111-7D5B8CC6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E20-4E47-450A-9288-FACCC483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672A-A20B-478A-AB18-638A5031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E21F-F03A-407E-A27B-97AECB0B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2AB5-B4CC-4472-B1DF-E8F6254E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C3EC-4269-4ACC-A650-3BF5DDF1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06BD-7474-434A-B84F-5E1F9D2C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0D4-9086-4E84-BB4F-78AA8EBC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162-F248-4F84-A18F-82802137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407-7B5F-47B4-A737-4782DF21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9E1-08D0-45A1-8D07-F03F30D4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3ED-3C05-48CD-8715-5B36354E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A9A-75E6-41C5-8F69-44DA92E8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8A3-A96B-4B26-A82F-F0C3B18E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0A66E-0A7F-4E15-A7DC-8B443E87C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6280" y="688644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C5710-913A-4BFC-8711-230C10044F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ZK7kUVNyXUs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30320" y="200160"/>
            <a:ext cx="18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19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5240" y="1481040"/>
            <a:ext cx="44128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Volby v Českoslovens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96960" y="4384800"/>
            <a:ext cx="1976400" cy="2841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34040" y="1471680"/>
            <a:ext cx="3230640" cy="2511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311640" y="4384800"/>
            <a:ext cx="1938240" cy="2841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878440" y="4316400"/>
            <a:ext cx="3708360" cy="2795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60360" y="1979640"/>
            <a:ext cx="55800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920" y="539280"/>
            <a:ext cx="9070920" cy="65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Calibri"/>
              </a:rPr>
              <a:t>Převrat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7320" indent="-32040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ládní kriz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inistr vnitra (Nosek) obsazoval klíčová místa spolustraníky 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komunističtí ministři podávají demis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ČSL, DS, NS) nepřipojili se SD a nestraníci (J. Masaryk, L. Svoboda) → demise pouze 12 z 26 → nepadne vlá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7320" indent="0" algn="ctr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7320" indent="-32040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SČ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ávrh na “rekonstrukci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lá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7320" indent="-32040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bilizace veřejnost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demonstrace, generální stávka, lidové milice, akční výb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7320" indent="-32040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tlak na prezidenta Bene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718160" y="3576600"/>
            <a:ext cx="6440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30320" y="200160"/>
            <a:ext cx="18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19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481040"/>
            <a:ext cx="1995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Tábor li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240" y="2235240"/>
            <a:ext cx="948996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KSČ mobilizuje „pracující masy“, politický boj se přenáší do ulic a závo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1. února mohutná manifestace na Staroměstském námě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ojev Klementa Gottwal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8920" y="3672000"/>
            <a:ext cx="4488120" cy="3171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28128" t="5899" r="7361" b="73950"/>
          <a:stretch/>
        </p:blipFill>
        <p:spPr>
          <a:xfrm>
            <a:off x="257040" y="3672000"/>
            <a:ext cx="3605400" cy="1379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20575" t="79859" r="7361" b="11152"/>
          <a:stretch/>
        </p:blipFill>
        <p:spPr>
          <a:xfrm>
            <a:off x="5145120" y="1395360"/>
            <a:ext cx="4621320" cy="706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47680" y="5195880"/>
            <a:ext cx="5648400" cy="21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30320" y="200160"/>
            <a:ext cx="18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19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3840" y="1481040"/>
            <a:ext cx="3727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Sjezd závodních r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240" y="2189160"/>
            <a:ext cx="4887720" cy="17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ahájen 22. ún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měl demonstrovat „vůli lidu“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odbory vyjadřují masovou podporu komunistickému plánu řešení kr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37080" y="1442880"/>
            <a:ext cx="4119840" cy="5829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3280" y="4381560"/>
            <a:ext cx="416088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30320" y="200160"/>
            <a:ext cx="18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19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120" y="1481040"/>
            <a:ext cx="3434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Studenti na Hrad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240" y="2179800"/>
            <a:ext cx="91375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veřejná vystoupení nekomunistů velmi slab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studenti uspořádali průvod na Hrad k prezidentu republi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3680" y="3251160"/>
            <a:ext cx="3305160" cy="3697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24960" y="7053120"/>
            <a:ext cx="3001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vobodné noviny z 25. 2. 19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60880" y="3060720"/>
            <a:ext cx="4489560" cy="398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95760" y="7101000"/>
            <a:ext cx="54831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ak to bylo v únoru“ - vydal ÚAV NF v únoru 19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44960" y="4184640"/>
            <a:ext cx="813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249800" y="3244680"/>
            <a:ext cx="6440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1040" y="181080"/>
            <a:ext cx="1666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19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560" y="1344600"/>
            <a:ext cx="24516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Akční výb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360" y="1994040"/>
            <a:ext cx="894564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na pracovištích začaly vznikat akční výb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systematické akce proti nekomunistům v úřadech a na pracoviští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čistky – </a:t>
            </a:r>
            <a:r>
              <a:rPr b="0" i="1" lang="de-DE" sz="2200" spc="-1" strike="noStrike">
                <a:solidFill>
                  <a:srgbClr val="000000"/>
                </a:solidFill>
                <a:latin typeface="Calibri"/>
              </a:rPr>
              <a:t>„vyakčňování reakčních živlů“ –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vyhazovy z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atýkání politických oponent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381560" y="3244680"/>
            <a:ext cx="4278240" cy="3057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69720" y="3613320"/>
            <a:ext cx="2251080" cy="302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967120" y="6415200"/>
            <a:ext cx="6340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to z knihy „Jak to bylo v únoru“ - vydal ÚAV NF v únoru 19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5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Dovršení převzetí moc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9240" y="1379520"/>
            <a:ext cx="668952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rožura </a:t>
            </a:r>
            <a:r>
              <a:rPr b="0" i="1" lang="de-DE" sz="2200" spc="-1" strike="noStrike">
                <a:solidFill>
                  <a:srgbClr val="000000"/>
                </a:solidFill>
                <a:latin typeface="Calibri"/>
              </a:rPr>
              <a:t>„Můj poměr ke KSČ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150 československých kulturních pracovníků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v ní vysvětluje, proč budou volit KS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1040" y="5692680"/>
            <a:ext cx="944568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Nejsem členem komunistické strany ani žádné jiné, avšak můj poměr ke KSČ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je kladný. Jak pro její ideu, tak pro její státotvornou orientaci vnější i vnitřní,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pro její důkladný program slovanské vzájemnosti a vlastenectví, vykoupený v boji krví tolika příslušníky strany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25400" y="6883560"/>
            <a:ext cx="4908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irigent Národního divadla Jaroslav Knoblo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47080" y="1434960"/>
            <a:ext cx="2511360" cy="3619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>
            <a:lum bright="-6000"/>
          </a:blip>
          <a:stretch/>
        </p:blipFill>
        <p:spPr>
          <a:xfrm rot="20520000">
            <a:off x="530280" y="3097080"/>
            <a:ext cx="1852560" cy="237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776680" y="2995560"/>
            <a:ext cx="388296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54520" y="1481040"/>
            <a:ext cx="69062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Příčiny volebního vítězství komunist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29360" y="2389320"/>
            <a:ext cx="4502160" cy="37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levicová tradice předválečné Č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vděčnost za osvobození většiny země Rudou armád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nejbližší přátelé“ SSSR a Stal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důrazňování zásluh o vyhnání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 vypořádání se s Něm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velkolepé komunistické sli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8680" y="2271600"/>
            <a:ext cx="4533840" cy="50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000" y="539280"/>
            <a:ext cx="907092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3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věten 46 – vol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 11 lete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ne zcela demokratick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Účastnit se smějí pouze strany národní fro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existence opozice --&gt; všechny strany ve vlád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ázdné volební lístk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tězství KSČ 37,9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-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ředseda vlády Klement Gotwald (KS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-&gt; Klíčová ministerstv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(M. zemědělství, vnitra, informací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-&gt; Podle výdledků obsazeny i národní výb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079640"/>
            <a:ext cx="9539280" cy="3419280"/>
          </a:xfrm>
          <a:prstGeom prst="roundRect">
            <a:avLst>
              <a:gd name="adj" fmla="val 4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Česko: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SČ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– 37,94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lovensko: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mokratická stran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61,43 %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K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30,4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1920" y="388800"/>
            <a:ext cx="5688000" cy="316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b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Národní schromáždě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5720" y="3652920"/>
            <a:ext cx="84596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718160" y="3576600"/>
            <a:ext cx="6440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30320" y="200160"/>
            <a:ext cx="18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19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5920" y="1481040"/>
            <a:ext cx="26481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Dvouletý pl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240" y="2235240"/>
            <a:ext cx="95472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řijat vládou 25. října 19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cíl: dosáhnout úplné obnovy válkou zničeného hospodář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71520" y="3295800"/>
            <a:ext cx="2652840" cy="3952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95600" y="3295800"/>
            <a:ext cx="2894040" cy="3951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840360" y="3295800"/>
            <a:ext cx="269748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1947 pařížská koference – jednání o Marshallově plánu – vláda ČSR přijala účast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2000"/>
              </a:lnSpc>
              <a:spcAft>
                <a:spcPts val="156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ČSR následně donucenena SSSR odmítnout M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60720" y="2700360"/>
            <a:ext cx="431928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000" y="539280"/>
            <a:ext cx="9070920" cy="802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án KSČ  na převzetí mo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324000">
              <a:lnSpc>
                <a:spcPct val="93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ládnout klíčových ministerstev a pozic ve stá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324000">
              <a:lnSpc>
                <a:spcPct val="93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budov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širokou podporu mezi obyvatelstv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ozemková reforma, odborová organizace (ROH), agitace mezi lid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324000">
              <a:lnSpc>
                <a:spcPct val="93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íť příznivců a iformátor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v armádě, tajné policii, cizích politických stranách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324000">
              <a:lnSpc>
                <a:spcPct val="93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alphaL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reditace odpůrců a provok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apř. DS na slovensku, Krčmanská aféra, Mostecká afé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0">
              <a:lnSpc>
                <a:spcPct val="93000"/>
              </a:lnSpc>
              <a:spcAft>
                <a:spcPts val="12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30320" y="200160"/>
            <a:ext cx="18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5320" y="1481040"/>
            <a:ext cx="34192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Milionářská dáv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240" y="2303640"/>
            <a:ext cx="630396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komunistický návrh – bude mimořádně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daněno asi 35 000 obča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nekomunističtí ministři daně vymezené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jen pro některé odmít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mohutná kampaň KSČ a odbor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heslo </a:t>
            </a:r>
            <a:r>
              <a:rPr b="0" i="1" lang="de-DE" sz="2200" spc="-1" strike="noStrike">
                <a:solidFill>
                  <a:srgbClr val="000000"/>
                </a:solidFill>
                <a:latin typeface="Calibri"/>
              </a:rPr>
              <a:t>„Ať platí bohatí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202440" y="1389240"/>
            <a:ext cx="3546360" cy="3612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19240" y="5477040"/>
            <a:ext cx="95295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koncem září „milionářskou dávku“ vláda i Národní shromáždění schvál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930320" y="200160"/>
            <a:ext cx="18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5680" y="1481040"/>
            <a:ext cx="31921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Krčmáňská afé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240" y="2301840"/>
            <a:ext cx="95472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esátého září 1947 byly náměstkovi předsedy vlády dr. Petru Zenklovi a ministrům Janu Masarykovi a Prokopu Drtinovi zaslány „dárkové balíčky“ s náložemi tritolu, jež však byly včas zneškodněny. Přes všechno zastírací úsilí komunistické bezpečnosti se orgánům ministerstva spravedlnosti podařilo dosti brzy mnohé objasnit. Stopy vedly do Krčmáně 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u Olomouce a na komunistický sekretariát KSČ přímo v Olomouci, zejména 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ke komunistickému ministrovi Jurovi Sosnaro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Při domovní prohlídce bylo nalezeno 89 pušek, jeden těžký a jeden lehký kulomet, střelivo 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a ruční granáty, což jeden komunistický historik prohlašuje za „zbytek výzbroje 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po partyzánské skupině z války“, zatímco druhý mluví ještě decentněji o „sbírce zbraní, 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která byla památkou na činnost jedné z partyzánských skupin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oudní řízení s pachateli atentátu, stanovené na březen 1948, se přirozeně nekonalo. 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r. Zdeněk Marjanko z ministerstva spravedlnosti, který řídil vyšetřování případu, byl zatčen už 23. února a byl umučen u výslech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itováno ze zprávy ministra spravedlnosti v parlamentě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arel Kaplan, Vilém Hejl: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Zpráva o organizovaném násil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/>
  <dcterms:modified xsi:type="dcterms:W3CDTF">2020-05-10T11:45:45Z</dcterms:modified>
  <cp:revision>34</cp:revision>
  <dc:subject/>
  <dc:title/>
</cp:coreProperties>
</file>