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C516-3BEF-48A6-95FC-73A35028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C50-7A7C-460C-AAC8-AA870D95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0C16-B255-4B9B-A80F-0A1D45C8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CBC-BF11-4D79-9497-3E7DCC43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31AE-73FD-46B9-8C4D-E571AE82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4A7F-4583-45D2-8C42-6CAAF145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CE9A-6DEB-4071-B797-68D4D372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C993-CA90-4A34-8814-D9231765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48DD-C31A-4BF9-80E0-7EDF81F9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9443-2041-4FA9-AFAB-9D9B9DC5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6409-266B-4591-B465-6DDEE6B4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B82-0BBC-4B24-901F-735374AD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C356-E93D-43D3-94D5-C4F49AB8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A1CB-0469-4ACA-96C4-312F512C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DD91-06AA-48B8-9E56-976A13EC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4886-0804-490E-8374-EE098459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0254-3B06-49F7-940C-053E9D10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3B6-BD6E-47F5-8D19-B759F4E2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4AE-6037-4B94-8FFE-B288D925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B25-3D74-4926-83D1-1F0ADF1A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AD92-260B-4276-9E7E-483439A9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563A-F324-4175-86B0-34AAD1D9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C993-7378-45C6-9DE9-C9AEF7B0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327-26AE-4FCD-949F-07DF960F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CF2B5-D0F5-4A53-B8A2-BC09BAF9D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6280" y="688644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C16372-821F-4CEA-A3BD-2D3FB4D08B8C}" type="slidenum">
              <a: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hyperlink" Target="http://www.moderni-dejiny.cz/clanek-zakon-247-48-sb-o-taborech-nucene-prace-25-10-1948-614/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www.rozhlas.cz/radiozurnal/zprava/_zprava/202927" TargetMode="Externa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SR po převra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. února 1948 – komunistický puč završ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parlament potvrdil novou vlá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1. vlna emigrace (do srpna 48 – 8 000 občan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užení reži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ládnutí společ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á ústava a zák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vní složky m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měny v hospodář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ké proce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70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z</a:t>
            </a:r>
            <a:r>
              <a:rPr b="0" lang="pt-BR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ákon o táborech nucené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133800" y="604800"/>
            <a:ext cx="6945120" cy="4154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811760"/>
            <a:ext cx="595296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 Black"/>
                <a:hlinkClick r:id="rId3"/>
              </a:rPr>
              <a:t>zákon 247/48 Sb. o táborech nucené práce (25.10.19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komunisté tímto zákonem získali jedinečný nástroj k vyřizová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osobních úč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o umístění do tábora rozhodovaly tříčlenné komise jmenova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krajským národním výb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548400" y="4819680"/>
            <a:ext cx="3532320" cy="2739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160640"/>
            <a:ext cx="329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lágry prošlo přibližně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20 tisíc obča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nemusel být spáchán trestný čin,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stačilo pouhé podez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bez soudního přelíčení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tak mohl v táborech občan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strávit dobu do dvou 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9800" y="5778360"/>
            <a:ext cx="1587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1949 - 1951 tábor nucených prací </a:t>
            </a:r>
            <a:br>
              <a:rPr sz="1000"/>
            </a:br>
            <a:r>
              <a:rPr b="1" lang="cs-CZ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Vojna Lešetice a následně vězeňské zařízení pro politické vězně </a:t>
            </a:r>
            <a:br>
              <a:rPr sz="1000"/>
            </a:br>
            <a:r>
              <a:rPr b="1" lang="cs-CZ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komunistického režimu z let 1951 - 1961</a:t>
            </a:r>
            <a:r>
              <a:rPr b="0" lang="cs-CZ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04800"/>
            <a:ext cx="627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vznikla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nová vláda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v čele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s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Antonínem Zápotocký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200" y="0"/>
            <a:ext cx="22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nová vlá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24600" y="33480"/>
            <a:ext cx="4956120" cy="6349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118120" y="6381720"/>
            <a:ext cx="440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Opis jmenovacího listu prezidenta republiky zaslaný poslanci Antonínu Zápotockému, jímž byl jmenován předsedou vlád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5160" y="1954080"/>
            <a:ext cx="19432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920" y="6450120"/>
            <a:ext cx="726264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920" y="1954080"/>
            <a:ext cx="5159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(někteří členové vlá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náměstek předsedy vlád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Viliam Široký, Zdeněk Fierli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ministr zahraničních věc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Vladimír Clemen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ministr národní obran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Ludvík Svob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ministr vnitra: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Václav Nosek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ministr školství a osvět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Zdeněk Nejedl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ministr spravedlnost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Alexej Čep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ministr informac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Václav Kopeck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ministr průmyslu (těžkého průmyslu):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Gustav Kl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02920" y="900000"/>
            <a:ext cx="90709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 1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bor národní bezpečnosti) dvě složk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átní bezpečnost) – tajná polic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eřejná bezpečnost) - pol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dové mil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ozbrojení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řívrženci KSČ v řadách dělníků - "ozbrojená pěst KSČ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má oporu v zákon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dřízeni přímo předsedovi KS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00360" y="380880"/>
            <a:ext cx="4643280" cy="2498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843280" y="3060720"/>
            <a:ext cx="4356000" cy="23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20360" y="383760"/>
            <a:ext cx="9070920" cy="69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 1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yakčňování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kční výbory - odstraňování  nepohodlných lidí na všech úrovních společnosti --&gt; ztráta zaměstnání, vyloučení ze š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labení nebo zničení stran 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. květ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demokratické vol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Jednotná kandidátka + vždy pouze jeden kandidát na obvod (komunisté 70% kandidátů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ládnuta armáda a soud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rušení spolkové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rušení nekomunistických novin a časopis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zura, přepisování histo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 algn="ctr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šesokolský s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60720" y="1260360"/>
            <a:ext cx="4008240" cy="575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7640" y="539640"/>
            <a:ext cx="1333440" cy="1952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19640" y="179280"/>
            <a:ext cx="5940360" cy="2160720"/>
          </a:xfrm>
          <a:prstGeom prst="wedgeRoundRectCallout">
            <a:avLst>
              <a:gd name="adj1" fmla="val -78064"/>
              <a:gd name="adj2" fmla="val 18717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čistíme střední a vysoké ško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d reakčních studentů a postaráme se o 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by převážná část studujících střední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vysokých škol se rekrutovala z dělnických rodin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Black"/>
              </a:rPr>
              <a:t>Rudolf Slánsk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V Praze bylo vyloučeno 7 565 studentů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tedy 28%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60720" y="2290680"/>
            <a:ext cx="5832360" cy="2749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60720" y="2340000"/>
            <a:ext cx="2879640" cy="34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580000" y="2340000"/>
            <a:ext cx="2700360" cy="34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6120" y="0"/>
            <a:ext cx="651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národní fronta a likvidace opoz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6120" y="1081080"/>
            <a:ext cx="9802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- oslabení a rozrušení, případně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</a:t>
            </a:r>
            <a:r>
              <a:rPr b="0" lang="cs-CZ" sz="1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úplná likvidace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nekomunistických  stran Národní fro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do voleb vstupovala </a:t>
            </a:r>
            <a:r>
              <a:rPr b="0" lang="cs-CZ" sz="1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tzv. Jednotná kandidátka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</a:t>
            </a:r>
            <a:r>
              <a:rPr b="0" lang="cs-CZ" sz="16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Národní fronty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NF jmenovala do každého volebního obvodu jednoho svého kandidáta, kterého pak voliči ve "volbách" potvrd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76120" y="2509920"/>
            <a:ext cx="9606240" cy="48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6120" y="2589120"/>
            <a:ext cx="8097840" cy="4970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6160" y="446040"/>
            <a:ext cx="9904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 Black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Národní frontě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byla dána pravom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rozhodovat, kterým stranám bude do budoucna povolena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byla tak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postavena nad parlament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a především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mimo demokratickou kontro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od února 1948 se stala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nástrojem totalitního politického systému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uplatňovaného KS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480" y="2351160"/>
            <a:ext cx="380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seznam jednotlivých složek Národní fronty: (stav z roku 197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6920" y="843120"/>
            <a:ext cx="5376960" cy="4000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75400" y="604800"/>
            <a:ext cx="4268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- čis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i zde nastoupily tzv.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dělnické kádry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- lidé bezvýhradně oddaní reži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výsledkem toho byl znatelný úpadek odbornosti a kvality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většina prošla krátkodobými kursy či absolvovala několik přednáš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- znalost práva a zákonů nehrála důležitou r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výchova se pouze omezovala na techniku práce v Bezp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nastává období politických procesů, jejichž režii měli do značné míry v rukou sovětští porad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9840" y="20808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6920" y="4970520"/>
            <a:ext cx="550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Prokurátorka Ludmila Brožová-Polednová se jako dělnický kádr spolupodílela na justiční vraždě Milady Horákové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500200" y="5553000"/>
            <a:ext cx="2857680" cy="200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56080" y="6948360"/>
            <a:ext cx="269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"Právnická škola pracujících"...aneb za pouhý rok z dělníka prokurátor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6920" y="5684760"/>
            <a:ext cx="19843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000" spc="-1" strike="noStrike" u="sng">
                <a:solidFill>
                  <a:srgbClr val="ccccff"/>
                </a:solidFill>
                <a:uFillTx/>
                <a:latin typeface="Arial Black"/>
                <a:hlinkClick r:id="rId4"/>
              </a:rPr>
              <a:t>Mimořádný zvukový dokument o unikátním zvukovém záznamu závěrečné řeči všech obžalovaných v monstr procesu s Miladou Horákovou Z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96000" y="4170240"/>
            <a:ext cx="3348000" cy="2687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79280" y="3684600"/>
            <a:ext cx="5472360" cy="3173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2040" y="49320"/>
            <a:ext cx="343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situace v armád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480" y="692280"/>
            <a:ext cx="905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</a:t>
            </a:r>
            <a:r>
              <a:rPr b="0" lang="cs-CZ" sz="18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čistky v armá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</a:t>
            </a:r>
            <a:r>
              <a:rPr b="0" lang="cs-CZ" sz="18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na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uvolněná </a:t>
            </a:r>
            <a:r>
              <a:rPr b="0" lang="cs-CZ" sz="18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místa důstojníků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ze západní fronty nastoupily po absolvování rychlokurzů, tzv. </a:t>
            </a:r>
            <a:r>
              <a:rPr b="0" lang="cs-CZ" sz="18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dělnické kád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politická převýchova vojáků </a:t>
            </a:r>
            <a:r>
              <a:rPr b="0" lang="cs-CZ" sz="18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působením tzv. politru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do neozbrojených </a:t>
            </a:r>
            <a:r>
              <a:rPr b="0" lang="cs-CZ" sz="18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Pomocných technických praporů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(PTP) byly zařazovány „politicky nespolehlivé osoby</a:t>
            </a:r>
            <a:r>
              <a:rPr b="0" lang="ja-JP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“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(kněží, kulaci, živnostníci, intelektuálov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</a:t>
            </a:r>
            <a:r>
              <a:rPr b="0" lang="cs-CZ" sz="18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Vojenská kontrarozvědka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působila ve všech armádních zařízeních a vojenských útvarech a její příslušníci, tzv. kontráši zpravodajsky podléhali S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24360" y="3573360"/>
            <a:ext cx="341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Příslušníci Pomocných technických praporů tzv. černí baroni byly nasazováni na různých stavbách, těžbě v kamenolomech a dolec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103480" y="3382920"/>
            <a:ext cx="3498840" cy="2855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483080" y="2271600"/>
            <a:ext cx="2475000" cy="1710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97880" y="-23760"/>
            <a:ext cx="32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všesokolský s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6920" y="604800"/>
            <a:ext cx="968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- za velké mezinárodní účasti se v Praze konal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XI. všesokolský s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- především závěrečný průvod Sokolů, který trval 6 hodin, vyzněl jako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protivládní demonst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- ještě během sletu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</a:rPr>
              <a:t>zadržela bezpečnost 237 osob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 a okamžitě po sletu bylo iniciováno zasílání rezolucí za očistu So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56440" y="6651720"/>
            <a:ext cx="226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 Black"/>
              </a:rPr>
              <a:t>Reakce Závodní rady Vysočanské mlékárny na všesokolský sle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96920" y="2192400"/>
            <a:ext cx="2617560" cy="2120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0" y="4646520"/>
            <a:ext cx="3849840" cy="2913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7183440" y="2192400"/>
            <a:ext cx="2538360" cy="20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 rot="21000000">
            <a:off x="5117760" y="4257720"/>
            <a:ext cx="4794120" cy="28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796000" y="1079640"/>
            <a:ext cx="4284720" cy="6271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15880" y="843120"/>
            <a:ext cx="3730680" cy="2976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34880" y="3938760"/>
            <a:ext cx="3816360" cy="345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9480" y="54000"/>
            <a:ext cx="47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pohřeb Edvarda Beneš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25760" y="3780000"/>
            <a:ext cx="1587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 Black"/>
              </a:rPr>
              <a:t>Z obavy před dalšími demonstracemi proti režimu byly povolány sbory lidových milicí z celého pražského kraje. Více než 4000 mužů, vyzbrojených puškami a ostrými náboji, vytvořilo nepropustnou hráz podél předem schválené cesty pohřebního průvod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 1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á ústava 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dově demoratická republika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neš odmítá podepsat – abdikace --&gt; prezidentem zvol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lement Gotw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ákon na ochranu republi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. č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1/48s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ákon o zřízení státního sou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z. č. 232/48s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ákon o táboreh nucených pr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20" y="6627960"/>
            <a:ext cx="327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První rozsudek Státního soudu vPraze, kterým byly vyneseny vysoké tresty včetně trestů smrti za velezradu a vyzvědačství. Odsouzeno bylo 15 oso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2Z</dcterms:created>
  <dc:creator/>
  <dc:description/>
  <dc:language>en-US</dc:language>
  <cp:lastModifiedBy/>
  <dcterms:modified xsi:type="dcterms:W3CDTF">2020-05-17T17:53:34Z</dcterms:modified>
  <cp:revision>44</cp:revision>
  <dc:subject/>
  <dc:title/>
</cp:coreProperties>
</file>