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5BD-78C1-4A7E-BBA0-AE3C9119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B9A-C657-458F-9422-74D2FCAA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201-0C9C-418B-A920-DC216C7F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788-617F-48ED-A361-D0224EDB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575C0-0466-4B6D-A48E-09EAC1A654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53A81-33D5-4378-98AC-BAA62913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25BFC-D2F8-4222-A4A9-5CE8CDEA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6EDC7-EBF1-4DAA-BF44-9C0D1137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D347D-6379-49DD-AE61-FC160187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C30CA-B753-4748-BF35-62D84536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70EEA-5FB0-4267-B0F5-78262FCF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6D1-8793-4E4D-B5CB-4C4BAF58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752E4-A566-46F4-9C9F-611E6A01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446CE-6F7A-4BD5-88A0-134570B5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7A9A0-B74C-47DB-A757-69DDB761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1C803-1AEF-4968-9C44-0C4EC39A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678E4-A4AC-463B-B761-6A770A00C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33F-B84F-4146-A7CC-B3289B1B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FBD-1D88-41DE-B469-5E99FCBE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683-9B04-4C71-A917-7C684169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97B-AC30-4E9A-9D05-DFB2C438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5BD-7615-411A-BC80-4CEE201A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496-7185-43F2-AF7B-32D6F15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544-AD43-4B1F-99C8-71EF5A99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644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343A136-5183-4C5C-8FB5-1C7E8AF84AD5}" type="slidenum">
              <a: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694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7007040"/>
            <a:ext cx="2349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4.05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B1C6F-2D75-4541-8477-F62E171EAA7B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2920" y="360360"/>
            <a:ext cx="9070920" cy="728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 1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entrální plán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28728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ětiletky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28728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pné zničení soukromého sektoru, znárodňován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28728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ování těžkého průmys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lektivizac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dé přišli o majetek, ztráta "odborníků" + perzkuce odpůrc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lování pozemků, zakládání JZD a státních stat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Snaha uvolnit pracovní sílu pro těžký průmys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Dohled nad venkovem --&gt; centrálně řízené zemědělstv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ěnová refor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ehodnocení ús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kles životní úrov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chod na centrální plánování a oddlužení státních podni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920" y="208080"/>
            <a:ext cx="7937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Palatino Linotype"/>
              </a:rPr>
              <a:t>skutečné důvody reform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503280" y="1239840"/>
            <a:ext cx="907092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r. 1953 krachovala první pětiletka a bylo třeba situaci řeš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hlavním cílem byl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přechod k sovětskému modelu centrálního plánování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 (sovětský model byl totiž neslučitelný s volnými peněžními prostředky v rukou občanů → byly odstraně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režim také zároveň získal </a:t>
            </a:r>
            <a:r>
              <a:rPr b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přesný přehled o majetku obča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6680" y="3700440"/>
            <a:ext cx="4281480" cy="34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040360" y="3700440"/>
            <a:ext cx="4640040" cy="34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515880" y="6796080"/>
            <a:ext cx="1825560" cy="303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Calibri"/>
              </a:rPr>
              <a:t>pracovník válcov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19560" y="6796080"/>
            <a:ext cx="2857680" cy="303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Calibri"/>
              </a:rPr>
              <a:t>A. Zápotocký na návštěvě NH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7920" y="208080"/>
            <a:ext cx="7937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Palatino Linotype"/>
              </a:rPr>
              <a:t>pokles životní úrovně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03280" y="1239840"/>
            <a:ext cx="90709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3399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životní úroveň všech poklesla 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–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reálné mzdy klesly zhruba </a:t>
            </a:r>
            <a:br>
              <a:rPr sz="2400"/>
            </a:br>
            <a:r>
              <a:rPr b="0" lang="cs-CZ" sz="24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o 12%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; provedením reformy byla kupní síla peněz, které lidé vydělali od konce války do roku 1953, téměř vynulová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Měnová reforma postihla spekulanty a hrabivce, ale také příslušníky dělnické třídy, kteří si ze mzdy šetřili na nábytek 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či jiné životní potřeby.“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 (kronika obce Prostřední Beč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920" y="4176720"/>
            <a:ext cx="5157720" cy="29624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881600" y="4176720"/>
            <a:ext cx="4976640" cy="29890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3452760" y="7034040"/>
            <a:ext cx="3492720" cy="303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Calibri"/>
              </a:rPr>
              <a:t>nové poreformní bankovky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50,- a 25,- Kč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6920" y="0"/>
            <a:ext cx="65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perzekuce církví a náboženských organiz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" y="1111320"/>
            <a:ext cx="9825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zvláště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katolická církev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byla trnem v oku reži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StB pracovala na potlačení jejího vlivu s cílem úplné likvid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komunisté začali navštěvovat kostely, kde sledovali obsah kázání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a referovali o jeho ob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vyvolávali incidenty při bohoslužbách, které poskytovaly záminku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k pronásledování kněží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(Číhošťský zázr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StB zinscenovala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akci "K"- likvidaci klášt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15.března 1950 začalo zatýkání spojené s důkladnými prohlídkami klášt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ze 13. na 14. dubna 1950 bylo soustředěno a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internováno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v českých zemích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více než 900 řeholníků a obsazeno 76 klášterních objektů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, na Slovensku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881 řeholníků a 62 klášt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7120" y="5207040"/>
            <a:ext cx="3608280" cy="2152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102440" y="5149800"/>
            <a:ext cx="2976480" cy="2216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245120" y="4732200"/>
            <a:ext cx="258120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95840" y="5238720"/>
            <a:ext cx="4200480" cy="2320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1640" y="135000"/>
            <a:ext cx="41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hospodářská poli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6840" y="793800"/>
            <a:ext cx="9983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plánované hospodářství a znárodňování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majetku byly zavedeny již Košickým vládním progra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únor 1948 však znamenal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totální a nedobrovolnou změnu vlastnických vzta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úplná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likvidace živností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(v roce 1947 existovalo 409 815 živností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a v roce 1953 už jen asi 80 000 živností a jejich počet dále kles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bylo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likvidováno na 250 000 samostatných zemědělců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a nahradilo je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8 000 Jednotných zemědělských družs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5880" y="3541680"/>
            <a:ext cx="4483080" cy="359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627960" y="2994120"/>
            <a:ext cx="309564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01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 Black"/>
              <a:buAutoNum type="romanU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pětiletka – přestav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ekonomiky po sovětském vz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4600" y="1430280"/>
            <a:ext cx="542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po prvním dvouletém plánu zaveden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první pětiletý plán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na léta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1949-19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v říjnu 1947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Ústřední plánovací komise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zahájila přípravy první pětile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zprůmyslnění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bylo považováno za klíč k dosažení vyspělosti zem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- důraz na těžký průmysl (těžební, ocelářsk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reálné chování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ekonomických subjektů však bylo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zcela jiné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, než předpokládal plá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95840" y="1160640"/>
            <a:ext cx="4295880" cy="6190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9480" y="5151600"/>
            <a:ext cx="3414600" cy="24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35280" y="1501920"/>
            <a:ext cx="39243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5880" y="208080"/>
            <a:ext cx="90727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lektivizace v ČSR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5880" y="1398600"/>
            <a:ext cx="47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nstantia"/>
              </a:rPr>
              <a:t>Scelování poze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5880" y="2033640"/>
            <a:ext cx="9128160" cy="5311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5880" y="2033640"/>
            <a:ext cx="9128160" cy="53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5880" y="20808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lektivizace v ČSR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4200" y="2033640"/>
            <a:ext cx="8570880" cy="543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5880" y="20808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lektivizace v ČSR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3280" y="2131920"/>
            <a:ext cx="9072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jem převzatý z Rusk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zv. „vesnický boháč“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dlák s půdou nad 20 h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ivní propagandistická</a:t>
            </a:r>
            <a:br>
              <a:rPr sz="3500"/>
            </a:br>
            <a:r>
              <a:rPr b="0" lang="cs-CZ" sz="3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mpaň proti ni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5880" y="1398600"/>
            <a:ext cx="47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nstantia"/>
              </a:rPr>
              <a:t>Ku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34000" y="1335240"/>
            <a:ext cx="4446720" cy="622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440" y="2111400"/>
            <a:ext cx="10014120" cy="468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59280" y="954000"/>
            <a:ext cx="3959280" cy="552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0720" y="1619280"/>
            <a:ext cx="4859280" cy="2519280"/>
          </a:xfrm>
          <a:prstGeom prst="wedgeRoundRectCallout">
            <a:avLst>
              <a:gd name="adj1" fmla="val 85708"/>
              <a:gd name="adj2" fmla="val 3688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orbe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Corbel"/>
              </a:rPr>
              <a:t>Naše měna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orbel"/>
              </a:rPr>
              <a:t>je pevná a měnová reforma nebu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orbel"/>
              </a:rPr>
              <a:t>všechno jsou fám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orbel"/>
              </a:rPr>
              <a:t>které šíří třídní nepřátelé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orbel"/>
              </a:rPr>
              <a:t>29. května 19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5040360"/>
            <a:ext cx="43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rbel"/>
              </a:rPr>
              <a:t>v sobotu 30.</a:t>
            </a:r>
            <a:r>
              <a:rPr b="0" lang="de-D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rbel"/>
              </a:rPr>
              <a:t>května</a:t>
            </a:r>
            <a:r>
              <a:rPr b="0" lang="de-DE" sz="2400" spc="-1" strike="noStrike">
                <a:solidFill>
                  <a:srgbClr val="000000"/>
                </a:solidFill>
                <a:latin typeface="Corbel"/>
              </a:rPr>
              <a:t>  vyhlášeno provedení měnové ref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920" y="208080"/>
            <a:ext cx="7937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Palatino Linotype"/>
              </a:rPr>
              <a:t>provedené reformní krok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5357880" y="1398600"/>
            <a:ext cx="42861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všechny mzdové i sociální příjmy byly snížen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v poměru 5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3399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hotovosti občanů byly vyměněny do 300 Kčs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v poměru 5:1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 (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zbytek </a:t>
            </a:r>
            <a:br>
              <a:rPr sz="2400"/>
            </a:br>
            <a:r>
              <a:rPr b="0" lang="cs-CZ" sz="24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v poměru 50:1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životní pojistky v poměru 50:1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3399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byly anulovány vázané vklady, veškeré státní dluhopisy a všechny další tuzemské cenné papíry (akcie, listy, směnky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57120" y="4414680"/>
            <a:ext cx="4707000" cy="27864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7920" y="1319040"/>
            <a:ext cx="4759200" cy="21434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198360" y="3462480"/>
            <a:ext cx="2619360" cy="303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Calibri"/>
              </a:rPr>
              <a:t>předreformní padesátikor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5040" y="4097160"/>
            <a:ext cx="2222280" cy="303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Calibri"/>
              </a:rPr>
              <a:t>poreformní desetikor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2565360" y="3716280"/>
            <a:ext cx="634680" cy="444240"/>
          </a:xfrm>
          <a:prstGeom prst="rightArrow">
            <a:avLst>
              <a:gd name="adj1" fmla="val 50000"/>
              <a:gd name="adj2" fmla="val 35717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/>
  <dcterms:modified xsi:type="dcterms:W3CDTF">2020-05-24T18:00:55Z</dcterms:modified>
  <cp:revision>32</cp:revision>
  <dc:subject/>
  <dc:title/>
</cp:coreProperties>
</file>