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9A9-B007-408C-AB63-80EF413C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0B0-431C-4DED-AD1B-9B8B16A2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FF0-3A5E-40B1-92BB-894F5996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73F-8CB3-46B7-947E-14D2E43F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0D45-646B-4C43-B1D7-B29C7B26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7556-476B-4234-9CF3-602F5D90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0B23-A185-46DB-A868-6CC1B606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188D-E27A-4FD8-B54A-EBD65EDD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77C4-F5DB-4700-9B99-B20CBF32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DD0B-D26E-4CBC-8004-330BBEB0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B67E-8C21-49C4-AD99-00AF6600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BA0-2136-47A4-996D-B99649AA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72DD-473A-41B5-B14D-A8A2AD0C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496F-A25E-4197-9A26-BFA92DAB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14B9-7544-4EE4-AF31-D716BC6B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B916-3483-4BE8-8BC9-8B83DE75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10EB-7A16-46C3-9E5C-B313973F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C58-6617-4044-82FD-268C3EF8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C53-B0E6-4C18-8B94-81C07665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0E5-9B00-4F62-A2C8-6DFEAE6B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D0E-786A-47CB-B7E3-6ECC4D38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887-3F46-4209-A029-488F5780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438-6856-4067-9F32-3A8D3E43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8EC-3555-4C57-BF00-4C6925F8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FADA2-430A-4F53-9560-584601B88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6280" y="688644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815754-8429-407E-B73B-6D08BCFFB193}" type="slidenum">
              <a: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hyperlink" Target="http://www.moderni-dejiny.cz/clanek-zakon-247-48-sb-o-taborech-nucene-prace-25-10-1948-614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rozhlas.cz/radiozurnal/zprava/_zprava/202927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SR po převra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 února 1948 – komunistický puč završ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parlament potvrdil novou vlá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1. vlna emigrace (do srpna 48 – 8 000 občan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užení reži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ládnutí společ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á ústava a zák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vní složky 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měny v hospodář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ké proce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7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z</a:t>
            </a:r>
            <a:r>
              <a:rPr b="0" lang="pt-BR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ákon o táborech nucené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133800" y="604800"/>
            <a:ext cx="6945120" cy="415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811760"/>
            <a:ext cx="595296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 Black"/>
                <a:hlinkClick r:id="rId3"/>
              </a:rPr>
              <a:t>zákon 247/48 Sb. o táborech nucené práce (25.10.19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komunisté tímto zákonem získali jedinečný nástroj k vyřizov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osobních úč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o umístění do tábora rozhodovaly tříčlenné komise jmenova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krajským národním výb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548400" y="4819680"/>
            <a:ext cx="3532320" cy="2739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160640"/>
            <a:ext cx="329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lágry prošlo přibližně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20 tisíc obča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nemusel být spáchán trestný čin,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stačilo pouhé podez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bez soudního přelíčení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tak mohl v táborech občan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strávit dobu do dvou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9800" y="5778360"/>
            <a:ext cx="1587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1949 - 1951 tábor nucených prací </a:t>
            </a:r>
            <a:br>
              <a:rPr sz="1000"/>
            </a:br>
            <a:r>
              <a:rPr b="1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Vojna Lešetice a následně vězeňské zařízení pro politické vězně </a:t>
            </a:r>
            <a:br>
              <a:rPr sz="1000"/>
            </a:br>
            <a:r>
              <a:rPr b="1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komunistického režimu z let 1951 - 1961</a:t>
            </a:r>
            <a:r>
              <a:rPr b="0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04800"/>
            <a:ext cx="627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vznikla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nová vláda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v čele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s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Antonínem Zápotock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200" y="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nová vlá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24600" y="33480"/>
            <a:ext cx="4956120" cy="6349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118120" y="6381720"/>
            <a:ext cx="44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Opis jmenovacího listu prezidenta republiky zaslaný poslanci Antonínu Zápotockému, jímž byl jmenován předsedou vlád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5160" y="1954080"/>
            <a:ext cx="19432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920" y="6450120"/>
            <a:ext cx="726264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920" y="1954080"/>
            <a:ext cx="5159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(někteří členové vlá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náměstek předsedy vlád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Viliam Široký, Zdeněk Fierl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zahraničních věc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Vladimír Clemen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národní obran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Ludvík Svob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vnitra: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Václav Nosek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školství a osvě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Zdeněk Nejedl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spravedlnos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Alexej Čep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informac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Václav Kopec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průmyslu (těžkého průmyslu):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Gustav Kl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02920" y="900000"/>
            <a:ext cx="90709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1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bor národní bezpečnosti) dvě složk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átní bezpečnost) – tajná polic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eřejná bezpečnost) - pol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dové mil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zbrojení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řívrženci KSČ v řadách dělníků - "ozbrojená pěst KSČ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má oporu v zákon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dřízeni přímo předsedovi KS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00360" y="380880"/>
            <a:ext cx="4643280" cy="2498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843280" y="3060720"/>
            <a:ext cx="4356000" cy="23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20360" y="383760"/>
            <a:ext cx="9070920" cy="69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1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yakčňování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kční výbory - odstraňování  nepohodlných lidí na všech úrovních společnosti --&gt; ztráta zaměstnání, vyloučení ze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labení nebo zničení stran 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. květ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demokratické vol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Jednotná kandidátka + vždy pouze jeden kandidát na obvod (komunisté 70% kandidátů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ládnuta armáda a soud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rušení spolkov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rušení nekomunistických novin a časopis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zura, přepisování hist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šesokolský s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60720" y="1260360"/>
            <a:ext cx="4008240" cy="575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7640" y="539640"/>
            <a:ext cx="1333440" cy="195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19640" y="179280"/>
            <a:ext cx="5940360" cy="2160720"/>
          </a:xfrm>
          <a:prstGeom prst="wedgeRoundRectCallout">
            <a:avLst>
              <a:gd name="adj1" fmla="val -78064"/>
              <a:gd name="adj2" fmla="val 1871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istíme střední a vysoké ško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d reakčních studentů a postaráme se o 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by převážná část studujících střední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vysokých škol se rekrutovala z dělnických rodin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Black"/>
              </a:rPr>
              <a:t>Rudolf Sláns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V Praze bylo vyloučeno 7 565 studentů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tedy 28%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60720" y="2290680"/>
            <a:ext cx="5832360" cy="274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0720" y="2340000"/>
            <a:ext cx="2879640" cy="34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580000" y="2340000"/>
            <a:ext cx="2700360" cy="34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6120" y="0"/>
            <a:ext cx="651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národní fronta a likvidace opoz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6120" y="1081080"/>
            <a:ext cx="9802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- oslabení a rozrušení, případně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1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úplná likvidace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nekomunistických  stran Národní fro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do voleb vstupovala </a:t>
            </a:r>
            <a:r>
              <a:rPr b="0" lang="cs-CZ" sz="1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tzv. Jednotná kandidátka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1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Národní fronty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NF jmenovala do každého volebního obvodu jednoho svého kandidáta, kterého pak voliči ve "volbách" potvrd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6120" y="2509920"/>
            <a:ext cx="9606240" cy="48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6120" y="2589120"/>
            <a:ext cx="8097840" cy="4970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6160" y="446040"/>
            <a:ext cx="9904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 Black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Národní frontě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byla dána pravom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rozhodovat, kterým stranám bude do budoucna povolena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byla tak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postavena nad parlament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a především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mimo demokratickou kontro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od února 1948 se stala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nástrojem totalitního politického systému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uplatňovaného KS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480" y="2351160"/>
            <a:ext cx="380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seznam jednotlivých složek Národní fronty: (stav z roku 197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6920" y="843120"/>
            <a:ext cx="5376960" cy="4000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75400" y="604800"/>
            <a:ext cx="4268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- čis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i zde nastoupily tzv.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dělnické kádry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- lidé bezvýhradně oddaní reži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výsledkem toho byl znatelný úpadek odbornosti a kvality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většina prošla krátkodobými kursy či absolvovala několik přednáš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- znalost práva a zákonů nehrála důležitou r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výchova se pouze omezovala na techniku práce v Bezp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nastává období politických procesů, jejichž režii měli do značné míry v rukou sovětští porad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9840" y="20808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920" y="4970520"/>
            <a:ext cx="550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Prokurátorka Ludmila Brožová-Polednová se jako dělnický kádr spolupodílela na justiční vraždě Milady Horákové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00200" y="5553000"/>
            <a:ext cx="2857680" cy="200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56080" y="6948360"/>
            <a:ext cx="269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"Právnická škola pracujících"...aneb za pouhý rok z dělníka prokurátor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6920" y="5684760"/>
            <a:ext cx="19843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000" spc="-1" strike="noStrike" u="sng">
                <a:solidFill>
                  <a:srgbClr val="ccccff"/>
                </a:solidFill>
                <a:uFillTx/>
                <a:latin typeface="Arial Black"/>
                <a:hlinkClick r:id="rId4"/>
              </a:rPr>
              <a:t>Mimořádný zvukový dokument o unikátním zvukovém záznamu závěrečné řeči všech obžalovaných v monstr procesu s Miladou Horákovou Z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96000" y="4170240"/>
            <a:ext cx="3348000" cy="2687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79280" y="3684600"/>
            <a:ext cx="5472360" cy="317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2040" y="49320"/>
            <a:ext cx="34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situace v armá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480" y="692280"/>
            <a:ext cx="905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čistky v armá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na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uvolněná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místa důstojníků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ze západní fronty nastoupily po absolvování rychlokurzů, tzv.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dělnické kád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politická převýchova vojáků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působením tzv. politru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do neozbrojených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Pomocných technických praporů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(PTP) byly zařazovány „politicky nespolehlivé osoby</a:t>
            </a:r>
            <a:r>
              <a:rPr b="0" lang="ja-JP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“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(kněží, kulaci, živnostníci, intelektuálov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Vojenská kontrarozvědka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působila ve všech armádních zařízeních a vojenských útvarech a její příslušníci, tzv. kontráši zpravodajsky podléhali S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24360" y="3573360"/>
            <a:ext cx="34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Příslušníci Pomocných technických praporů tzv. černí baroni byly nasazováni na různých stavbách, těžbě v kamenolomech a dolec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103480" y="3382920"/>
            <a:ext cx="3498840" cy="2855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83080" y="2271600"/>
            <a:ext cx="2475000" cy="1710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7880" y="-23760"/>
            <a:ext cx="32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všesokolský s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6920" y="604800"/>
            <a:ext cx="968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- za velké mezinárodní účasti se v Praze konal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XI. všesokolský s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- především závěrečný průvod Sokolů, který trval 6 hodin, vyzněl jako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protivládní demonst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- ještě během sletu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zadržela bezpečnost 237 osob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 a okamžitě po sletu bylo iniciováno zasílání rezolucí za očistu So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56440" y="6651720"/>
            <a:ext cx="226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</a:rPr>
              <a:t>Reakce Závodní rady Vysočanské mlékárny na všesokolský sle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96920" y="2192400"/>
            <a:ext cx="2617560" cy="2120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0" y="4646520"/>
            <a:ext cx="3849840" cy="2913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7183440" y="2192400"/>
            <a:ext cx="2538360" cy="20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 rot="21000000">
            <a:off x="5117760" y="4257720"/>
            <a:ext cx="4794120" cy="28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96000" y="1079640"/>
            <a:ext cx="4284720" cy="6271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15880" y="843120"/>
            <a:ext cx="3730680" cy="2976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34880" y="3938760"/>
            <a:ext cx="381636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9480" y="54000"/>
            <a:ext cx="47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pohřeb Edvarda Bene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25760" y="3780000"/>
            <a:ext cx="1587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</a:rPr>
              <a:t>Z obavy před dalšími demonstracemi proti režimu byly povolány sbory lidových milicí z celého pražského kraje. Více než 4000 mužů, vyzbrojených puškami a ostrými náboji, vytvořilo nepropustnou hráz podél předem schválené cesty pohřebního průvod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1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á ústava 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dově demoratická republika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neš odmítá podepsat – abdikace --&gt; prezidentem zvol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lement Gotw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ákon na ochranu republi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. č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1/48s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ákon o zřízení státního sou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z. č. 232/48s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ákon o táboreh nucených pr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20" y="6627960"/>
            <a:ext cx="32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První rozsudek Státního soudu vPraze, kterým byly vyneseny vysoké tresty včetně trestů smrti za velezradu a vyzvědačství. Odsouzeno bylo 15 oso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/>
  <dcterms:modified xsi:type="dcterms:W3CDTF">2020-05-17T17:53:34Z</dcterms:modified>
  <cp:revision>44</cp:revision>
  <dc:subject/>
  <dc:title/>
</cp:coreProperties>
</file>