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699-AD90-4C75-8BA8-0249553C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0C1-DF5E-42E8-A8D3-2B9316C2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587-40AD-4D82-B2B3-1711D25F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C99-808E-464A-80E9-1651E921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F5D-71B1-4DAF-80EC-BC4D37C9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81A-4B13-46FD-B144-2A9B35B9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453-304E-42B5-AA74-8CF56060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F1E-EF0A-4A8F-B5D7-98161292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7FD-D788-4EED-ACF4-6B554DA4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EA4-9F2B-42CE-8C20-F52056C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9EB-984F-45B0-A783-1297905A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3DA-A8ED-44BF-BEA6-06DB8476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5A6AE-1412-471A-A28B-542DE3BA04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st napětí - Suez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9280" y="3600360"/>
            <a:ext cx="46800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88720" y="185400"/>
            <a:ext cx="90709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† --&gt; Chruščov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aliniz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&gt; Kritika Stalina a jeho zloči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&gt; zrušení gulagů, rehabilitace části politických vězňů, zrušení kultu osobnost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&gt; kolektivní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le velmi tvrdý režim, ale zlepšení vztahů se západem --&gt;  "mírové soutěžení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21204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čátek závodu o dobytí vesmí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1957 Sputnik, 1961 Gagar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21204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ec války v Koreji a Indočín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&gt; Vietnam rozdělen na komunistickou a demokrtickou část (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21204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ec okupace Rakousk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pad spojenectví s Čí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40720" y="179280"/>
            <a:ext cx="180000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3280" y="179280"/>
            <a:ext cx="2827080" cy="203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0000" y="720720"/>
            <a:ext cx="360360" cy="360360"/>
          </a:xfrm>
          <a:prstGeom prst="plus">
            <a:avLst>
              <a:gd name="adj" fmla="val 355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9640" y="720720"/>
            <a:ext cx="360360" cy="360360"/>
          </a:xfrm>
          <a:prstGeom prst="plus">
            <a:avLst>
              <a:gd name="adj" fmla="val 355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780000"/>
            <a:ext cx="5580000" cy="1079280"/>
          </a:xfrm>
          <a:prstGeom prst="wedgeRoundRectCallout">
            <a:avLst>
              <a:gd name="adj1" fmla="val 66777"/>
              <a:gd name="adj2" fmla="val -28791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ť se vám to líbí nebo ne, dějiny jsou na naší stran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hřbíme vás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7600" y="304920"/>
            <a:ext cx="9753480" cy="6896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932200" y="1440000"/>
            <a:ext cx="4087800" cy="52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4680" y="1146240"/>
            <a:ext cx="7238880" cy="5295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5680" y="419040"/>
            <a:ext cx="762012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280" y="539640"/>
            <a:ext cx="907092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stání v ND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stání v Polsk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lačeno polskou vládou, ale nastartovalo proces destali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Zrušena zemědělská družstva + tolerována katolická ví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stání v Maďarsk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5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vrdě potlačeno SSSR --&gt; několika týdenní boje (20 000 mrtvý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ké proc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87880" y="539640"/>
            <a:ext cx="481320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1720" y="539640"/>
            <a:ext cx="3787920" cy="251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70000" y="3959280"/>
            <a:ext cx="4770360" cy="325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400720" y="3944880"/>
            <a:ext cx="4595760" cy="307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519280" y="2519280"/>
            <a:ext cx="5353200" cy="278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58840" y="1440000"/>
            <a:ext cx="8381880" cy="47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280" y="539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ce západní Ev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Evropské společenství uhlí a oc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8 EUROATO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spodářská spolupráce --&gt; cíle: společný trh, volný pohyb pracovních sil...at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3897360" cy="472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86200" y="360360"/>
            <a:ext cx="4394160" cy="46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60720" y="1619280"/>
            <a:ext cx="5040360" cy="52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539280"/>
            <a:ext cx="9070920" cy="67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ízký východ zaostalý ale strategická poloha --&gt; soupeření o vliv mezi USA a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ůst napětí vrcholí v r. 1956 v Egyp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čané financují stavbu Asuánské pře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pt uznává ČLR --&gt; USA zastavily financo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Egypťané znárodnil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lečnost Suezského průplavu (Br. a Fr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by z výdělků financovali stavbu pře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rael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ásili Egyptu vá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por OSN, USA a SSSR --&gt; nuceni se stáhn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ílení postavení Egyta a vlivu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19280" y="900000"/>
            <a:ext cx="529272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8120" y="326880"/>
            <a:ext cx="5561280" cy="709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5-31T17:20:38Z</dcterms:modified>
  <cp:revision>46</cp:revision>
  <dc:subject/>
  <dc:title/>
</cp:coreProperties>
</file>