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F00-2FD6-44E0-8C92-1D17655A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D9E-8625-4DE2-AA88-7CD5BAB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75C-DBBD-487A-B5EA-DB09C9AC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E24-06C5-4EAC-A195-53417231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91A-C51B-4D6D-8A05-B33B2C45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884-5101-460E-8BAA-DA230053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4B2-AD1C-4280-A9A7-A50A6198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34B-ACEA-4169-91FB-8297CEA4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E3B-4CBF-4066-8151-741AE9E8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E52-7DC6-4223-9B0A-66053D5C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1E3-C6E2-45E9-B841-2A9DA39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023-C45C-4665-9884-9321D59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3B9A4-FE95-4B4F-B767-5FBBF4463C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s://www.youtube.com/watch?v=IKqXu-5jw60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03280" y="647640"/>
            <a:ext cx="9067680" cy="61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NDR (východní německo) každoročně utíkali do západního Berlína tisíce především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dělaných lid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→ Sověti potřebují Z. Berlín dostat pod kontrolu → Začlenění do NDR odmítnuto západem → srpen 1961 Berlín rozdělen z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ovala 28 let a má řadu obětí při pokusu o její překo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0" y="71280"/>
            <a:ext cx="3816360" cy="1656000"/>
          </a:xfrm>
          <a:prstGeom prst="roundRect">
            <a:avLst>
              <a:gd name="adj" fmla="val 93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roku 1961 prchlo téměř 3 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chodních Němc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6000" y="1633680"/>
            <a:ext cx="975348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96960" y="936720"/>
            <a:ext cx="7620120" cy="596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élka 165 km -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7920" y="216000"/>
            <a:ext cx="6418080" cy="381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40360" y="3600360"/>
            <a:ext cx="4876920" cy="3800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7280" y="4032360"/>
            <a:ext cx="4680000" cy="32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531120" y="216000"/>
            <a:ext cx="354780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3280" y="252000"/>
            <a:ext cx="90676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 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9 revoluce na Kubě → Fidel Cast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ný rozkol s USA → Kuba směřuje do východního bloku – 1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62 SSSR rozmisťuje na Kubě jaderné stř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Chruščov potřebuje posílit svou pozici – ukázat, že je na západ tvrd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USA rozmístili své rakety v Turecku (1952  NAT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eričané zahajují námořní blokádu Kuby x SSSR posílá do karibiku Jaderné ponorky → reálná hrozba 3. světové války (jaderné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hoda – USA stáhnou rakety z Turecka a Itálie, garantují bezpečnost Kuby x SSSR stáhne své rak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64000" y="792000"/>
            <a:ext cx="5486400" cy="640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4040" y="785880"/>
            <a:ext cx="4035600" cy="6415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760840" y="2008080"/>
            <a:ext cx="4078080" cy="3751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285920" y="1584360"/>
            <a:ext cx="757080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280" y="1373040"/>
            <a:ext cx="5337360" cy="402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84720" y="360360"/>
            <a:ext cx="2808000" cy="863640"/>
          </a:xfrm>
          <a:prstGeom prst="roundRect">
            <a:avLst>
              <a:gd name="adj" fmla="val 181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Duck 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442200" y="216000"/>
            <a:ext cx="3349440" cy="412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70680" y="4751280"/>
            <a:ext cx="350496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000" y="5256360"/>
            <a:ext cx="39592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36680" y="557280"/>
            <a:ext cx="906768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959 -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verní Vietnam -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o Či M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poruje partyzány na jihu 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ietko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h – popora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miňka pro vstup USA do vál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onkinský in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64 vstup USA do války: tvrdé partyzánské boje, krutý způsob války, bombardování Severního Vietn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álečné zločiny vojáků USA i Vietko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 proti válce v USA (např. Hnutí Hip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73 stažení USA z války → Jižní Vietnam poraž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360" y="1805040"/>
            <a:ext cx="4087800" cy="525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71280" y="0"/>
            <a:ext cx="460512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55640" y="149400"/>
            <a:ext cx="6264360" cy="1674720"/>
          </a:xfrm>
          <a:prstGeom prst="roundRect">
            <a:avLst>
              <a:gd name="adj" fmla="val 93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543 000 USA  vojáků (průměrný věk 22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kové poč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200 000 USA a spojenci x 520 000 S. Vietnam a spoj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kem mrtvých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 481 047 – 4 008 0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 toho civilist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631 000 – 2 5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-465120" y="555480"/>
            <a:ext cx="9753480" cy="6477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88960" y="1071720"/>
            <a:ext cx="7620120" cy="5553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962 – 1973 v jihovýchodní Asii 4 860 vrtu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250 0000 dola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0360" y="431640"/>
            <a:ext cx="5327640" cy="69836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kud vím, tak námořnictvo střílelo na velryb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3280" y="286920"/>
            <a:ext cx="9067680" cy="64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sakr v Mỹ Lai,  masakr v Hue, masakr v Dak Son, masakr v Phuoc-vinh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5760" y="1479600"/>
            <a:ext cx="6800760" cy="46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347 až 504 mrtv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67280" y="1935000"/>
            <a:ext cx="4668840" cy="368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2 800 až 6 000 mužů, žen, dětí, kojenc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ietkongu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280" y="201600"/>
            <a:ext cx="5473800" cy="692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střik Agent 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0" y="1728720"/>
            <a:ext cx="65516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st napětí - Suez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9280" y="3600360"/>
            <a:ext cx="46800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8720" y="185400"/>
            <a:ext cx="90709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† --&gt; Chruščov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aliniz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&gt; Kritika Stalina a jeho zloči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&gt; zrušení gulagů, rehabilitace části politických vězňů, zrušení kultu osobnost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&gt; kolektivní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le velmi tvrdý režim, ale zlepšení vztahů se západem --&gt;  "mírové soutěžení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6760" indent="-210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čátek závodu o dobytí vesmí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1957 Sputnik, 1961 Gag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06760" indent="-210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ec války v Koreji a Indočín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&gt; Vietnam rozdělen na komunistickou a demokrtickou část (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06760" indent="-210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ec okupace Rakousk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pad spojenectví s Čí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40720" y="179280"/>
            <a:ext cx="180000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3280" y="179280"/>
            <a:ext cx="2827080" cy="203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720720"/>
            <a:ext cx="360360" cy="360360"/>
          </a:xfrm>
          <a:prstGeom prst="plus">
            <a:avLst>
              <a:gd name="adj" fmla="val 355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9640" y="720720"/>
            <a:ext cx="360360" cy="360360"/>
          </a:xfrm>
          <a:prstGeom prst="plus">
            <a:avLst>
              <a:gd name="adj" fmla="val 355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780000"/>
            <a:ext cx="5580000" cy="1079280"/>
          </a:xfrm>
          <a:prstGeom prst="wedgeRoundRectCallout">
            <a:avLst>
              <a:gd name="adj1" fmla="val 66777"/>
              <a:gd name="adj2" fmla="val -28791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ť se vám to líbí nebo ne, dějiny jsou na naší stra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hřbíme vás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7600" y="30492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932200" y="1440000"/>
            <a:ext cx="4087800" cy="52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4680" y="1146240"/>
            <a:ext cx="7238880" cy="529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5680" y="419040"/>
            <a:ext cx="762012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539640"/>
            <a:ext cx="907092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stání v ND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stání v Polsk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lačeno polskou vládou, ale nastartovalo proces destali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Zrušena zemědělská družstva + tolerována katolická ví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stání v Maďars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5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vrdě potlačeno SSSR --&gt; několika týdenní boje (20 000 mrtvý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é proc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87880" y="539640"/>
            <a:ext cx="481320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1720" y="539640"/>
            <a:ext cx="378792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0000" y="3959280"/>
            <a:ext cx="4770360" cy="325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00720" y="3944880"/>
            <a:ext cx="4595760" cy="307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519280" y="2519280"/>
            <a:ext cx="5353200" cy="278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58840" y="1440000"/>
            <a:ext cx="8381880" cy="47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280" y="539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ce západní Ev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Evropské společenství uhlí a oc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8 EUROATO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spodářská spolupráce --&gt; cíle: společný trh, volný pohyb pracovních sil...at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3897360" cy="472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86200" y="360360"/>
            <a:ext cx="4394160" cy="46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60720" y="1619280"/>
            <a:ext cx="5040360" cy="52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539280"/>
            <a:ext cx="9070920" cy="67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ízký východ zaostalý ale strategická poloha --&gt; soupeření o vliv mezi USA a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ůst napětí vrcholí v r. 1956 v Egyp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čané financují stavbu Asuánské pře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 uznává ČLR --&gt; USA zastavily financo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Egypťané znárodnil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lečnost Suezského průplavu (Br. a Fr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by z výdělků financovali stavbu pře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rael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ásili Egyptu vá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por OSN, USA a SSSR --&gt; nuceni se stáhn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ílení postavení Egyta a vlivu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19280" y="900000"/>
            <a:ext cx="529272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8120" y="326880"/>
            <a:ext cx="5561280" cy="709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03280" y="431280"/>
            <a:ext cx="90676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fáze studené vá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růst napětí mezi V a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2. Berlín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) Karib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) Vietnamská vá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6-04T15:03:16Z</dcterms:modified>
  <cp:revision>72</cp:revision>
  <dc:subject/>
  <dc:title/>
</cp:coreProperties>
</file>